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4.gif" ContentType="image/gif"/>
  <Override PartName="/ppt/media/image22.jpeg" ContentType="image/jpeg"/>
  <Override PartName="/ppt/media/image12.jpeg" ContentType="image/jpeg"/>
  <Override PartName="/ppt/media/image6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E99-7F44-4DF3-9EDF-8EEBDB8E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4028-B5AA-473D-9A1E-4919E27E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9974-C190-4E48-A18A-4A07B81A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1958-0DE2-4D70-9268-90A61640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475C-DEC6-494B-89F4-02C118A17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48990-0740-4FEC-B083-360BBEC1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BD47-239D-4DAE-BCDA-B0BE9480C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1BA9D-857C-4271-AF5F-6C7D4AEEB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DC7D-00B6-4DEA-B765-C2779C7E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5576-5E19-4E9E-9740-AA694A648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147E-C4E5-41E6-983E-24A7D745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222F-463D-4D81-BD65-620197B0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D0963-7258-44BE-8A91-0A16ABAE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997BD-51CA-41DB-8E28-18A05CD9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4071-8978-4A97-99C3-E43BDCE90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DCF4-7FB7-4FC9-96D5-02C02EA7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A925-6F5F-4D4C-9499-A6A90930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8CC6-0861-45F8-8197-3D2670FDF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3AC4-E7A0-47D2-BB2F-5EE0109A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9BD-9B43-47CB-AE96-03ECB6EE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27A2-CCAD-4E67-9008-772E6570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B4DF-0F89-4726-A722-93C209F9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8091-FC9D-4A04-BF91-5C684D618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74B2-395E-4EC0-865A-A7F352A7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3333ff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D651-8AA7-4346-960D-68B4AB8D7E21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371600"/>
            <a:ext cx="8305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66"/>
                </a:solidFill>
                <a:latin typeface="Times New Roman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FE7C-EE17-4EE9-8C53-B3767C0C2C10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ff"/>
              </a:buClr>
              <a:buFont typeface="Arial"/>
              <a:buChar char="○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tenet.usc.edu/" TargetMode="External"/><Relationship Id="rId2" Type="http://schemas.openxmlformats.org/officeDocument/2006/relationships/hyperlink" Target="http://tenet.usc.edu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he </a:t>
            </a: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</a:t>
            </a: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 Architecture for Tiered Sensor Network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Ben Greenstein,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굴림"/>
              </a:rPr>
              <a:t>Jeongyeup Pa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굴림"/>
              </a:rPr>
              <a:t>Omprakash Gnawali, Ki-Young Jang, August Joki, Marcos Vieira, Deborah Estrin, Ramesh Govindan, Eddie Koh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85760" y="6019920"/>
            <a:ext cx="1014480" cy="674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96080" y="228600"/>
            <a:ext cx="128916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ing Subsyst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28880" y="447192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4471920"/>
            <a:ext cx="2895840" cy="480960"/>
          </a:xfrm>
          <a:prstGeom prst="rect">
            <a:avLst/>
          </a:prstGeom>
          <a:solidFill>
            <a:srgbClr val="eaeaea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228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048120" y="5562720"/>
            <a:ext cx="1371600" cy="53316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96080" y="5562720"/>
            <a:ext cx="137160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648320" y="5562720"/>
            <a:ext cx="137160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95880" y="5562720"/>
            <a:ext cx="1524240" cy="5331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"/>
          <p:cNvCxnSpPr>
            <a:stCxn id="216" idx="2"/>
            <a:endCxn id="218" idx="0"/>
          </p:cNvCxnSpPr>
          <p:nvPr/>
        </p:nvCxnSpPr>
        <p:spPr>
          <a:xfrm flipH="1">
            <a:off x="837720" y="4967280"/>
            <a:ext cx="144864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5" name=""/>
          <p:cNvCxnSpPr>
            <a:stCxn id="216" idx="2"/>
            <a:endCxn id="219" idx="0"/>
          </p:cNvCxnSpPr>
          <p:nvPr/>
        </p:nvCxnSpPr>
        <p:spPr>
          <a:xfrm>
            <a:off x="2285640" y="4967280"/>
            <a:ext cx="108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6" name=""/>
          <p:cNvCxnSpPr>
            <a:stCxn id="216" idx="2"/>
            <a:endCxn id="220" idx="0"/>
          </p:cNvCxnSpPr>
          <p:nvPr/>
        </p:nvCxnSpPr>
        <p:spPr>
          <a:xfrm>
            <a:off x="2286000" y="4967280"/>
            <a:ext cx="1448640" cy="59616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27" name=""/>
          <p:cNvCxnSpPr>
            <a:stCxn id="217" idx="2"/>
            <a:endCxn id="223" idx="0"/>
          </p:cNvCxnSpPr>
          <p:nvPr/>
        </p:nvCxnSpPr>
        <p:spPr>
          <a:xfrm>
            <a:off x="6857640" y="4967280"/>
            <a:ext cx="108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28" name=""/>
          <p:cNvCxnSpPr>
            <a:stCxn id="217" idx="2"/>
            <a:endCxn id="222" idx="0"/>
          </p:cNvCxnSpPr>
          <p:nvPr/>
        </p:nvCxnSpPr>
        <p:spPr>
          <a:xfrm flipH="1">
            <a:off x="5333400" y="4967280"/>
            <a:ext cx="152460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29" name=""/>
          <p:cNvCxnSpPr>
            <a:stCxn id="217" idx="2"/>
            <a:endCxn id="221" idx="0"/>
          </p:cNvCxnSpPr>
          <p:nvPr/>
        </p:nvCxnSpPr>
        <p:spPr>
          <a:xfrm>
            <a:off x="6857640" y="4967280"/>
            <a:ext cx="1524600" cy="5961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230" name=""/>
          <p:cNvSpPr/>
          <p:nvPr/>
        </p:nvSpPr>
        <p:spPr>
          <a:xfrm>
            <a:off x="3301920" y="3481560"/>
            <a:ext cx="2514600" cy="480960"/>
          </a:xfrm>
          <a:prstGeom prst="rect">
            <a:avLst/>
          </a:prstGeom>
          <a:solidFill>
            <a:srgbClr val="eaeaea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1" name=""/>
          <p:cNvCxnSpPr>
            <a:stCxn id="230" idx="2"/>
            <a:endCxn id="216" idx="0"/>
          </p:cNvCxnSpPr>
          <p:nvPr/>
        </p:nvCxnSpPr>
        <p:spPr>
          <a:xfrm flipH="1">
            <a:off x="2285280" y="3981240"/>
            <a:ext cx="2274120" cy="47700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232" name=""/>
          <p:cNvCxnSpPr>
            <a:stCxn id="230" idx="2"/>
            <a:endCxn id="217" idx="0"/>
          </p:cNvCxnSpPr>
          <p:nvPr/>
        </p:nvCxnSpPr>
        <p:spPr>
          <a:xfrm>
            <a:off x="4559040" y="3981240"/>
            <a:ext cx="2299320" cy="47700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o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Flexibility: Allow many applications to be implem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fficiency: Respect mote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nerality: Avoid embedding application-specific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implicity: Non-expert users should be able to develop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79AF-9173-40FD-8A7B-489297C5EC2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ing Languag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Linear data-flow language allowing flexible composition of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굴림"/>
              </a:rPr>
              <a:t>taskl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 tasklet specifies an elementary sensing, actuation, or data processing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asklets can have several parameters, hence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asklets can be </a:t>
            </a:r>
            <a:r>
              <a:rPr b="1" i="1" lang="en-US" sz="2000" spc="-1" strike="noStrike">
                <a:solidFill>
                  <a:srgbClr val="ff0000"/>
                </a:solidFill>
                <a:latin typeface="Times New Roman"/>
                <a:ea typeface="굴림"/>
              </a:rPr>
              <a:t>compose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o form a ta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Sample(</a:t>
            </a:r>
            <a:r>
              <a:rPr b="1" lang="en-US" sz="1600" spc="-1" strike="noStrike">
                <a:solidFill>
                  <a:srgbClr val="009999"/>
                </a:solidFill>
                <a:latin typeface="Arial"/>
                <a:ea typeface="굴림"/>
              </a:rPr>
              <a:t>500ms, REPEAT, ADC0, LIGHT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) </a:t>
            </a:r>
            <a:r>
              <a:rPr b="1" lang="en-US" sz="1800" spc="-1" strike="noStrike">
                <a:solidFill>
                  <a:srgbClr val="990000"/>
                </a:solidFill>
                <a:latin typeface="Wingdings"/>
                <a:ea typeface="Wingdings"/>
              </a:rPr>
              <a:t>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  <a:ea typeface="굴림"/>
              </a:rPr>
              <a:t> Sen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No loops, branches: eases construction and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ot Turing-complete: aggressively simple, but supports wide range of proposed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57160" y="5410080"/>
            <a:ext cx="7407360" cy="5335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ata-flow style language natural for sensor data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2E7-A84C-4A33-9AE7-2DC2769DCB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lasses of Tasklet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eb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ssue (Wait, Ala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Task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ActiveTask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ensor/Actu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ctu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ata Mani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rithm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mpari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ogic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Bitw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at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eteAttribute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iscellane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unt / Cons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7E87-F8C0-41C2-9C29-D735D66983A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 Compositions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ntToLedsAndR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enseToRf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With time-stamp and seq.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et memory status for node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If sample value is above 50, send sample data, node-id and time-stam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914400" y="1981080"/>
            <a:ext cx="3505320" cy="381240"/>
            <a:chOff x="914400" y="1981080"/>
            <a:chExt cx="3505320" cy="381240"/>
          </a:xfrm>
        </p:grpSpPr>
        <p:sp>
          <p:nvSpPr>
            <p:cNvPr id="243" name=""/>
            <p:cNvSpPr/>
            <p:nvPr/>
          </p:nvSpPr>
          <p:spPr>
            <a:xfrm>
              <a:off x="914400" y="1981080"/>
              <a:ext cx="685800" cy="381240"/>
            </a:xfrm>
            <a:prstGeom prst="rect">
              <a:avLst/>
            </a:prstGeom>
            <a:solidFill>
              <a:srgbClr val="99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28800" y="19810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43200" y="1981080"/>
              <a:ext cx="685800" cy="381240"/>
            </a:xfrm>
            <a:prstGeom prst="rect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igh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7600" y="19810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6002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146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9000" y="2162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914400" y="2895480"/>
            <a:ext cx="1905120" cy="381240"/>
            <a:chOff x="914400" y="2895480"/>
            <a:chExt cx="1905120" cy="381240"/>
          </a:xfrm>
        </p:grpSpPr>
        <p:sp>
          <p:nvSpPr>
            <p:cNvPr id="251" name=""/>
            <p:cNvSpPr/>
            <p:nvPr/>
          </p:nvSpPr>
          <p:spPr>
            <a:xfrm>
              <a:off x="914400" y="28954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57400" y="28954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828800" y="30765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914400" y="3809880"/>
            <a:ext cx="4343400" cy="381240"/>
            <a:chOff x="914400" y="3809880"/>
            <a:chExt cx="4343400" cy="381240"/>
          </a:xfrm>
        </p:grpSpPr>
        <p:sp>
          <p:nvSpPr>
            <p:cNvPr id="255" name=""/>
            <p:cNvSpPr/>
            <p:nvPr/>
          </p:nvSpPr>
          <p:spPr>
            <a:xfrm>
              <a:off x="3581280" y="38098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u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57400" y="3809880"/>
              <a:ext cx="1295280" cy="381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38098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352680" y="39909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67080" y="39956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914400" y="38098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828800" y="39909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14400" y="4724280"/>
            <a:ext cx="5334120" cy="381240"/>
            <a:chOff x="914400" y="4724280"/>
            <a:chExt cx="5334120" cy="381240"/>
          </a:xfrm>
        </p:grpSpPr>
        <p:sp>
          <p:nvSpPr>
            <p:cNvPr id="263" name=""/>
            <p:cNvSpPr/>
            <p:nvPr/>
          </p:nvSpPr>
          <p:spPr>
            <a:xfrm>
              <a:off x="3962520" y="4724280"/>
              <a:ext cx="1295280" cy="381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emS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486400" y="47242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7800" y="4905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828800" y="49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14400" y="4724280"/>
              <a:ext cx="91440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733920" y="49053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057400" y="47242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EQ(1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71800" y="4724280"/>
              <a:ext cx="76212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43200" y="49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4400" y="5638680"/>
            <a:ext cx="6629400" cy="381240"/>
            <a:chOff x="914400" y="5638680"/>
            <a:chExt cx="6629400" cy="381240"/>
          </a:xfrm>
        </p:grpSpPr>
        <p:sp>
          <p:nvSpPr>
            <p:cNvPr id="273" name=""/>
            <p:cNvSpPr/>
            <p:nvPr/>
          </p:nvSpPr>
          <p:spPr>
            <a:xfrm>
              <a:off x="914400" y="5638680"/>
              <a:ext cx="91440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828800" y="5819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057400" y="5638680"/>
              <a:ext cx="68580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LT(50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14800" y="58341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971800" y="5638680"/>
              <a:ext cx="114300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ATask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43200" y="58388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343400" y="5638680"/>
              <a:ext cx="91440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ddres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57800" y="582444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486400" y="5638680"/>
              <a:ext cx="1066680" cy="3812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81680" y="5638680"/>
              <a:ext cx="76212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553080" y="5819760"/>
              <a:ext cx="228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6654960" y="398520"/>
            <a:ext cx="1955520" cy="27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F544-9F05-47DF-92B9-4425D33E619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How many Tenet tasks can a mote run at the same time?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24080" y="2257560"/>
            <a:ext cx="51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648320" y="4419720"/>
            <a:ext cx="4190760" cy="764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Memory is the constraint, and task complexity matter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80880" y="4383000"/>
          <a:ext cx="3885840" cy="1865160"/>
        </p:xfrm>
        <a:graphic>
          <a:graphicData uri="http://schemas.openxmlformats.org/drawingml/2006/table">
            <a:tbl>
              <a:tblPr/>
              <a:tblGrid>
                <a:gridCol w="1037160"/>
                <a:gridCol w="611640"/>
                <a:gridCol w="269280"/>
                <a:gridCol w="272520"/>
                <a:gridCol w="270720"/>
                <a:gridCol w="542160"/>
                <a:gridCol w="882360"/>
              </a:tblGrid>
              <a:tr h="455760">
                <a:tc gridSpan="7">
                  <a:txBody>
                    <a:bodyPr lIns="0" rIns="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Memory Usage (~5KB hea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496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1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tamp Ti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8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ample(4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Sen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4">
                  <a:txBody>
                    <a:bodyPr lIns="0" rIns="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ctr" anchorCtr="1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190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89" name=""/>
          <p:cNvGrpSpPr/>
          <p:nvPr/>
        </p:nvGrpSpPr>
        <p:grpSpPr>
          <a:xfrm>
            <a:off x="682200" y="2938320"/>
            <a:ext cx="7709760" cy="403920"/>
            <a:chOff x="682200" y="2938320"/>
            <a:chExt cx="7709760" cy="403920"/>
          </a:xfrm>
        </p:grpSpPr>
        <p:sp>
          <p:nvSpPr>
            <p:cNvPr id="290" name=""/>
            <p:cNvSpPr/>
            <p:nvPr/>
          </p:nvSpPr>
          <p:spPr>
            <a:xfrm>
              <a:off x="7615440" y="293832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00640" y="2938320"/>
              <a:ext cx="99036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assif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mplit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719600" y="2938320"/>
              <a:ext cx="959040" cy="3812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Gather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tistic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62600" y="2938320"/>
              <a:ext cx="870120" cy="381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Delete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ttribu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14640" y="293832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929640" y="2938320"/>
              <a:ext cx="60948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586240" y="2938320"/>
              <a:ext cx="69696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7" name=""/>
            <p:cNvCxnSpPr>
              <a:stCxn id="294" idx="3"/>
              <a:endCxn id="296" idx="1"/>
            </p:cNvCxnSpPr>
            <p:nvPr/>
          </p:nvCxnSpPr>
          <p:spPr>
            <a:xfrm>
              <a:off x="2346480" y="312876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8" name=""/>
            <p:cNvCxnSpPr>
              <a:stCxn id="296" idx="3"/>
              <a:endCxn id="291" idx="1"/>
            </p:cNvCxnSpPr>
            <p:nvPr/>
          </p:nvCxnSpPr>
          <p:spPr>
            <a:xfrm>
              <a:off x="3283200" y="312876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9" name=""/>
            <p:cNvCxnSpPr>
              <a:stCxn id="291" idx="3"/>
              <a:endCxn id="292" idx="1"/>
            </p:cNvCxnSpPr>
            <p:nvPr/>
          </p:nvCxnSpPr>
          <p:spPr>
            <a:xfrm>
              <a:off x="4490640" y="3128760"/>
              <a:ext cx="2293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0" name=""/>
            <p:cNvCxnSpPr>
              <a:stCxn id="292" idx="3"/>
              <a:endCxn id="293" idx="1"/>
            </p:cNvCxnSpPr>
            <p:nvPr/>
          </p:nvCxnSpPr>
          <p:spPr>
            <a:xfrm>
              <a:off x="5678280" y="3128760"/>
              <a:ext cx="1846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1" name=""/>
            <p:cNvCxnSpPr>
              <a:stCxn id="293" idx="3"/>
              <a:endCxn id="295" idx="1"/>
            </p:cNvCxnSpPr>
            <p:nvPr/>
          </p:nvCxnSpPr>
          <p:spPr>
            <a:xfrm>
              <a:off x="6732360" y="3128760"/>
              <a:ext cx="197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02" name=""/>
            <p:cNvSpPr/>
            <p:nvPr/>
          </p:nvSpPr>
          <p:spPr>
            <a:xfrm>
              <a:off x="682200" y="294336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2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72480" y="2909880"/>
            <a:ext cx="5866200" cy="703800"/>
            <a:chOff x="672480" y="2909880"/>
            <a:chExt cx="5866200" cy="703800"/>
          </a:xfrm>
        </p:grpSpPr>
        <p:sp>
          <p:nvSpPr>
            <p:cNvPr id="304" name=""/>
            <p:cNvSpPr/>
            <p:nvPr/>
          </p:nvSpPr>
          <p:spPr>
            <a:xfrm>
              <a:off x="3490920" y="2930400"/>
              <a:ext cx="990360" cy="3812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lassif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mplitu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204920" y="293040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709880" y="2930400"/>
              <a:ext cx="60984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576520" y="2930400"/>
              <a:ext cx="696960" cy="38124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8" name=""/>
            <p:cNvCxnSpPr>
              <a:stCxn id="305" idx="3"/>
              <a:endCxn id="307" idx="1"/>
            </p:cNvCxnSpPr>
            <p:nvPr/>
          </p:nvCxnSpPr>
          <p:spPr>
            <a:xfrm>
              <a:off x="2336760" y="312084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09" name=""/>
            <p:cNvCxnSpPr>
              <a:stCxn id="307" idx="3"/>
              <a:endCxn id="304" idx="1"/>
            </p:cNvCxnSpPr>
            <p:nvPr/>
          </p:nvCxnSpPr>
          <p:spPr>
            <a:xfrm>
              <a:off x="3273480" y="312084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304" idx="3"/>
              <a:endCxn id="306" idx="1"/>
            </p:cNvCxnSpPr>
            <p:nvPr/>
          </p:nvCxnSpPr>
          <p:spPr>
            <a:xfrm>
              <a:off x="4480920" y="3120840"/>
              <a:ext cx="2293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1" name=""/>
            <p:cNvSpPr/>
            <p:nvPr/>
          </p:nvSpPr>
          <p:spPr>
            <a:xfrm>
              <a:off x="5395680" y="2909880"/>
              <a:ext cx="1143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, 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2480" y="291312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73560" y="2862360"/>
            <a:ext cx="4036320" cy="459720"/>
            <a:chOff x="673560" y="2862360"/>
            <a:chExt cx="4036320" cy="459720"/>
          </a:xfrm>
        </p:grpSpPr>
        <p:sp>
          <p:nvSpPr>
            <p:cNvPr id="314" name=""/>
            <p:cNvSpPr/>
            <p:nvPr/>
          </p:nvSpPr>
          <p:spPr>
            <a:xfrm>
              <a:off x="1204920" y="2930400"/>
              <a:ext cx="1131840" cy="3812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ample(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576520" y="2930400"/>
              <a:ext cx="696960" cy="3812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6" name=""/>
            <p:cNvCxnSpPr/>
            <p:nvPr/>
          </p:nvCxnSpPr>
          <p:spPr>
            <a:xfrm>
              <a:off x="2336760" y="313020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17" name=""/>
            <p:cNvSpPr/>
            <p:nvPr/>
          </p:nvSpPr>
          <p:spPr>
            <a:xfrm>
              <a:off x="3338280" y="290988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3560" y="2862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  <a:ea typeface="굴림"/>
                </a:rPr>
                <a:t>3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676080" y="1904040"/>
            <a:ext cx="5526000" cy="412560"/>
            <a:chOff x="676080" y="1904040"/>
            <a:chExt cx="5526000" cy="412560"/>
          </a:xfrm>
        </p:grpSpPr>
        <p:sp>
          <p:nvSpPr>
            <p:cNvPr id="320" name=""/>
            <p:cNvSpPr/>
            <p:nvPr/>
          </p:nvSpPr>
          <p:spPr>
            <a:xfrm>
              <a:off x="1214640" y="1935360"/>
              <a:ext cx="522000" cy="3808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Wai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976400" y="1935360"/>
              <a:ext cx="696960" cy="38088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mp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im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90800" y="1935360"/>
              <a:ext cx="95904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emory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ta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65840" y="1935360"/>
              <a:ext cx="609480" cy="38088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ext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72240" y="1935360"/>
              <a:ext cx="609480" cy="3808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5720" rIns="45720" tIns="46800" bIns="46800" anchor="ctr" anchorCtr="1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5" name=""/>
            <p:cNvCxnSpPr>
              <a:stCxn id="320" idx="3"/>
              <a:endCxn id="321" idx="1"/>
            </p:cNvCxnSpPr>
            <p:nvPr/>
          </p:nvCxnSpPr>
          <p:spPr>
            <a:xfrm>
              <a:off x="1736640" y="2125440"/>
              <a:ext cx="2404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6" name=""/>
            <p:cNvCxnSpPr>
              <a:stCxn id="321" idx="3"/>
              <a:endCxn id="322" idx="1"/>
            </p:cNvCxnSpPr>
            <p:nvPr/>
          </p:nvCxnSpPr>
          <p:spPr>
            <a:xfrm>
              <a:off x="2673360" y="2125440"/>
              <a:ext cx="2181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7" name=""/>
            <p:cNvCxnSpPr>
              <a:stCxn id="322" idx="3"/>
              <a:endCxn id="323" idx="1"/>
            </p:cNvCxnSpPr>
            <p:nvPr/>
          </p:nvCxnSpPr>
          <p:spPr>
            <a:xfrm>
              <a:off x="3849840" y="2125440"/>
              <a:ext cx="21672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28" name=""/>
            <p:cNvCxnSpPr>
              <a:stCxn id="323" idx="3"/>
              <a:endCxn id="324" idx="1"/>
            </p:cNvCxnSpPr>
            <p:nvPr/>
          </p:nvCxnSpPr>
          <p:spPr>
            <a:xfrm>
              <a:off x="4674960" y="2125440"/>
              <a:ext cx="19764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29" name=""/>
            <p:cNvSpPr/>
            <p:nvPr/>
          </p:nvSpPr>
          <p:spPr>
            <a:xfrm>
              <a:off x="5553360" y="1917720"/>
              <a:ext cx="64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6080" y="190404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1143000" y="1906560"/>
            <a:ext cx="4343400" cy="459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Network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525600" y="2895480"/>
            <a:ext cx="5805360" cy="459720"/>
            <a:chOff x="525600" y="2895480"/>
            <a:chExt cx="5805360" cy="459720"/>
          </a:xfrm>
        </p:grpSpPr>
        <p:sp>
          <p:nvSpPr>
            <p:cNvPr id="333" name=""/>
            <p:cNvSpPr/>
            <p:nvPr/>
          </p:nvSpPr>
          <p:spPr>
            <a:xfrm>
              <a:off x="5554440" y="2920680"/>
              <a:ext cx="77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ask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25600" y="2907000"/>
              <a:ext cx="33624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139760" y="2895480"/>
              <a:ext cx="4343400" cy="4597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ensing Appl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990720" y="3819600"/>
            <a:ext cx="32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(…on 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  <a:ea typeface="굴림"/>
              </a:rPr>
              <a:t>Tmote Sk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mo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891A-6E6A-4300-AB9E-C2D75F9BE7E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Overview of Networking Subsyst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028880" y="4038480"/>
            <a:ext cx="2514600" cy="4809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c0c0"/>
                </a:solidFill>
                <a:latin typeface="Arial"/>
                <a:ea typeface="굴림"/>
              </a:rPr>
              <a:t>Tasking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410080" y="4038480"/>
            <a:ext cx="289584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5228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0020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48120" y="5181480"/>
            <a:ext cx="1371600" cy="53352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c0c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3" name=""/>
          <p:cNvCxnSpPr>
            <a:stCxn id="338" idx="2"/>
            <a:endCxn id="340" idx="0"/>
          </p:cNvCxnSpPr>
          <p:nvPr/>
        </p:nvCxnSpPr>
        <p:spPr>
          <a:xfrm flipH="1">
            <a:off x="837720" y="4519080"/>
            <a:ext cx="144864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4" name=""/>
          <p:cNvCxnSpPr>
            <a:stCxn id="338" idx="2"/>
            <a:endCxn id="341" idx="0"/>
          </p:cNvCxnSpPr>
          <p:nvPr/>
        </p:nvCxnSpPr>
        <p:spPr>
          <a:xfrm>
            <a:off x="2285640" y="4519080"/>
            <a:ext cx="108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5" name=""/>
          <p:cNvCxnSpPr>
            <a:stCxn id="338" idx="2"/>
            <a:endCxn id="342" idx="0"/>
          </p:cNvCxnSpPr>
          <p:nvPr/>
        </p:nvCxnSpPr>
        <p:spPr>
          <a:xfrm>
            <a:off x="2286000" y="4519080"/>
            <a:ext cx="1448640" cy="66276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46" name=""/>
          <p:cNvCxnSpPr>
            <a:stCxn id="339" idx="2"/>
            <a:endCxn id="347" idx="0"/>
          </p:cNvCxnSpPr>
          <p:nvPr/>
        </p:nvCxnSpPr>
        <p:spPr>
          <a:xfrm>
            <a:off x="6857640" y="4533480"/>
            <a:ext cx="108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348" name=""/>
          <p:cNvCxnSpPr>
            <a:stCxn id="339" idx="2"/>
            <a:endCxn id="349" idx="0"/>
          </p:cNvCxnSpPr>
          <p:nvPr/>
        </p:nvCxnSpPr>
        <p:spPr>
          <a:xfrm flipH="1">
            <a:off x="5333400" y="4533480"/>
            <a:ext cx="152460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350" name=""/>
          <p:cNvCxnSpPr>
            <a:stCxn id="339" idx="2"/>
            <a:endCxn id="351" idx="0"/>
          </p:cNvCxnSpPr>
          <p:nvPr/>
        </p:nvCxnSpPr>
        <p:spPr>
          <a:xfrm>
            <a:off x="6857640" y="4533480"/>
            <a:ext cx="1524600" cy="64836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sp>
        <p:nvSpPr>
          <p:cNvPr id="352" name=""/>
          <p:cNvSpPr/>
          <p:nvPr/>
        </p:nvSpPr>
        <p:spPr>
          <a:xfrm>
            <a:off x="3301920" y="3024360"/>
            <a:ext cx="2514600" cy="480960"/>
          </a:xfrm>
          <a:prstGeom prst="rect">
            <a:avLst/>
          </a:prstGeom>
          <a:solidFill>
            <a:srgbClr val="eaeaea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c0c0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"/>
          <p:cNvCxnSpPr>
            <a:stCxn id="352" idx="2"/>
            <a:endCxn id="338" idx="0"/>
          </p:cNvCxnSpPr>
          <p:nvPr/>
        </p:nvCxnSpPr>
        <p:spPr>
          <a:xfrm flipH="1">
            <a:off x="2285280" y="3504960"/>
            <a:ext cx="2274120" cy="53388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cxnSp>
        <p:nvCxnSpPr>
          <p:cNvPr id="354" name=""/>
          <p:cNvCxnSpPr>
            <a:stCxn id="352" idx="2"/>
            <a:endCxn id="339" idx="0"/>
          </p:cNvCxnSpPr>
          <p:nvPr/>
        </p:nvCxnSpPr>
        <p:spPr>
          <a:xfrm>
            <a:off x="4559040" y="3505320"/>
            <a:ext cx="2299320" cy="519840"/>
          </a:xfrm>
          <a:prstGeom prst="straightConnector1">
            <a:avLst/>
          </a:prstGeom>
          <a:ln w="28440">
            <a:solidFill>
              <a:srgbClr val="dddddd"/>
            </a:solidFill>
            <a:miter/>
          </a:ln>
        </p:spPr>
      </p:cxnSp>
      <p:sp>
        <p:nvSpPr>
          <p:cNvPr id="355" name=""/>
          <p:cNvSpPr/>
          <p:nvPr/>
        </p:nvSpPr>
        <p:spPr>
          <a:xfrm>
            <a:off x="457200" y="1523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Scalability and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enerality: Should support diverse application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696080" y="518148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48320" y="518148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095880" y="5181480"/>
            <a:ext cx="15242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B409-969E-4AE0-AF91-BD7B8F6148B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ask Dissemina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1523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Reliably flood task from any master to all mo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Uses the master tier for disse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er-active-master cache with LRU replacement and 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690560" y="3048120"/>
            <a:ext cx="5730840" cy="320040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3581280" y="3835440"/>
            <a:ext cx="1147680" cy="1144440"/>
            <a:chOff x="3581280" y="3835440"/>
            <a:chExt cx="1147680" cy="1144440"/>
          </a:xfrm>
        </p:grpSpPr>
        <p:sp>
          <p:nvSpPr>
            <p:cNvPr id="360" name=""/>
            <p:cNvSpPr/>
            <p:nvPr/>
          </p:nvSpPr>
          <p:spPr>
            <a:xfrm>
              <a:off x="4348080" y="425772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rot="3600000">
              <a:off x="4156920" y="4586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7200000">
              <a:off x="3776040" y="4585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0800000">
              <a:off x="3581280" y="425772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8000000">
              <a:off x="4157280" y="3924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14400000">
              <a:off x="3776400" y="39240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4800600" y="3454560"/>
            <a:ext cx="1147680" cy="1144440"/>
            <a:chOff x="4800600" y="3454560"/>
            <a:chExt cx="1147680" cy="1144440"/>
          </a:xfrm>
        </p:grpSpPr>
        <p:sp>
          <p:nvSpPr>
            <p:cNvPr id="367" name=""/>
            <p:cNvSpPr/>
            <p:nvPr/>
          </p:nvSpPr>
          <p:spPr>
            <a:xfrm>
              <a:off x="5567400" y="38768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3600000">
              <a:off x="5376240" y="42051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200000">
              <a:off x="4995360" y="420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10800000">
              <a:off x="4800600" y="38768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18000000">
              <a:off x="5376600" y="3543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14400000">
              <a:off x="4995720" y="3543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5257800" y="4815000"/>
            <a:ext cx="1147680" cy="1144440"/>
            <a:chOff x="5257800" y="4815000"/>
            <a:chExt cx="1147680" cy="1144440"/>
          </a:xfrm>
        </p:grpSpPr>
        <p:sp>
          <p:nvSpPr>
            <p:cNvPr id="374" name=""/>
            <p:cNvSpPr/>
            <p:nvPr/>
          </p:nvSpPr>
          <p:spPr>
            <a:xfrm>
              <a:off x="6024600" y="52372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3600000">
              <a:off x="5833440" y="5565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200000">
              <a:off x="5452560" y="55652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10800000">
              <a:off x="5257800" y="52372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18000000">
              <a:off x="5833800" y="4903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4400000">
              <a:off x="5452920" y="4903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715000" y="4129200"/>
            <a:ext cx="1147680" cy="1144440"/>
            <a:chOff x="5715000" y="4129200"/>
            <a:chExt cx="1147680" cy="1144440"/>
          </a:xfrm>
        </p:grpSpPr>
        <p:sp>
          <p:nvSpPr>
            <p:cNvPr id="381" name=""/>
            <p:cNvSpPr/>
            <p:nvPr/>
          </p:nvSpPr>
          <p:spPr>
            <a:xfrm>
              <a:off x="64818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3600000">
              <a:off x="6290640" y="4879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200000">
              <a:off x="5909760" y="4879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10800000">
              <a:off x="57150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8000000">
              <a:off x="6291000" y="4218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14400000">
              <a:off x="5910120" y="42177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4267080" y="3959280"/>
            <a:ext cx="1147680" cy="1144440"/>
            <a:chOff x="4267080" y="3959280"/>
            <a:chExt cx="1147680" cy="1144440"/>
          </a:xfrm>
        </p:grpSpPr>
        <p:sp>
          <p:nvSpPr>
            <p:cNvPr id="388" name=""/>
            <p:cNvSpPr/>
            <p:nvPr/>
          </p:nvSpPr>
          <p:spPr>
            <a:xfrm>
              <a:off x="5033880" y="4381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3600000">
              <a:off x="4842720" y="470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200000">
              <a:off x="4461840" y="470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0800000">
              <a:off x="4267080" y="4381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18000000">
              <a:off x="4843080" y="4048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14400000">
              <a:off x="4462200" y="4047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500280" y="4902120"/>
            <a:ext cx="1147680" cy="1144440"/>
            <a:chOff x="3500280" y="4902120"/>
            <a:chExt cx="1147680" cy="1144440"/>
          </a:xfrm>
        </p:grpSpPr>
        <p:sp>
          <p:nvSpPr>
            <p:cNvPr id="395" name=""/>
            <p:cNvSpPr/>
            <p:nvPr/>
          </p:nvSpPr>
          <p:spPr>
            <a:xfrm>
              <a:off x="4267080" y="5324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3600000">
              <a:off x="4075920" y="5652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200000">
              <a:off x="3695040" y="5652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10800000">
              <a:off x="3500280" y="5324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18000000">
              <a:off x="4076280" y="4991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14400000">
              <a:off x="3695400" y="4990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5867280" y="4164120"/>
            <a:ext cx="1147680" cy="1144440"/>
            <a:chOff x="5867280" y="4164120"/>
            <a:chExt cx="1147680" cy="1144440"/>
          </a:xfrm>
        </p:grpSpPr>
        <p:sp>
          <p:nvSpPr>
            <p:cNvPr id="402" name=""/>
            <p:cNvSpPr/>
            <p:nvPr/>
          </p:nvSpPr>
          <p:spPr>
            <a:xfrm>
              <a:off x="6634080" y="4586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3600000">
              <a:off x="6442920" y="4914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200000">
              <a:off x="6062040" y="49143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10800000">
              <a:off x="5867280" y="45864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18000000">
              <a:off x="6443280" y="4253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14400000">
              <a:off x="6062400" y="4252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4876920" y="3554280"/>
            <a:ext cx="1147680" cy="1144440"/>
            <a:chOff x="4876920" y="3554280"/>
            <a:chExt cx="1147680" cy="1144440"/>
          </a:xfrm>
        </p:grpSpPr>
        <p:sp>
          <p:nvSpPr>
            <p:cNvPr id="409" name=""/>
            <p:cNvSpPr/>
            <p:nvPr/>
          </p:nvSpPr>
          <p:spPr>
            <a:xfrm>
              <a:off x="5643720" y="3976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3600000">
              <a:off x="5452560" y="4304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200000">
              <a:off x="5071680" y="4304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10800000">
              <a:off x="4876920" y="39765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18000000">
              <a:off x="5452920" y="3643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14400000">
              <a:off x="5072040" y="3642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2666880" y="4925880"/>
            <a:ext cx="1147680" cy="1144440"/>
            <a:chOff x="2666880" y="4925880"/>
            <a:chExt cx="1147680" cy="1144440"/>
          </a:xfrm>
        </p:grpSpPr>
        <p:sp>
          <p:nvSpPr>
            <p:cNvPr id="416" name=""/>
            <p:cNvSpPr/>
            <p:nvPr/>
          </p:nvSpPr>
          <p:spPr>
            <a:xfrm>
              <a:off x="343368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3600000">
              <a:off x="3242520" y="5676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200000">
              <a:off x="2861640" y="5676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10800000">
              <a:off x="266688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8000000">
              <a:off x="3242880" y="501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14400000">
              <a:off x="2862000" y="5014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057400" y="4240080"/>
            <a:ext cx="1147680" cy="1144440"/>
            <a:chOff x="2057400" y="4240080"/>
            <a:chExt cx="1147680" cy="1144440"/>
          </a:xfrm>
        </p:grpSpPr>
        <p:sp>
          <p:nvSpPr>
            <p:cNvPr id="423" name=""/>
            <p:cNvSpPr/>
            <p:nvPr/>
          </p:nvSpPr>
          <p:spPr>
            <a:xfrm>
              <a:off x="2824200" y="46623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3600000">
              <a:off x="2633040" y="49906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200000">
              <a:off x="2252160" y="49903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10800000">
              <a:off x="2057400" y="46623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8000000">
              <a:off x="2633400" y="43290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4400000">
              <a:off x="2252520" y="43286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3124080" y="3706920"/>
            <a:ext cx="1147680" cy="1144440"/>
            <a:chOff x="3124080" y="3706920"/>
            <a:chExt cx="1147680" cy="1144440"/>
          </a:xfrm>
        </p:grpSpPr>
        <p:sp>
          <p:nvSpPr>
            <p:cNvPr id="430" name=""/>
            <p:cNvSpPr/>
            <p:nvPr/>
          </p:nvSpPr>
          <p:spPr>
            <a:xfrm>
              <a:off x="3890880" y="41292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3600000">
              <a:off x="3699720" y="4457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200000">
              <a:off x="3318840" y="44571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10800000">
              <a:off x="3124080" y="412920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18000000">
              <a:off x="3700080" y="37958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4400000">
              <a:off x="3319200" y="3795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4414680" y="5283360"/>
            <a:ext cx="1147680" cy="1144440"/>
            <a:chOff x="4414680" y="5283360"/>
            <a:chExt cx="1147680" cy="1144440"/>
          </a:xfrm>
        </p:grpSpPr>
        <p:sp>
          <p:nvSpPr>
            <p:cNvPr id="437" name=""/>
            <p:cNvSpPr/>
            <p:nvPr/>
          </p:nvSpPr>
          <p:spPr>
            <a:xfrm>
              <a:off x="5181480" y="57056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3600000">
              <a:off x="4990320" y="60339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200000">
              <a:off x="4609440" y="6033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0800000">
              <a:off x="4414680" y="57056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000000">
              <a:off x="4990680" y="53722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14400000">
              <a:off x="4609800" y="5371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5105520" y="4925880"/>
            <a:ext cx="1147680" cy="1144440"/>
            <a:chOff x="5105520" y="4925880"/>
            <a:chExt cx="1147680" cy="1144440"/>
          </a:xfrm>
        </p:grpSpPr>
        <p:sp>
          <p:nvSpPr>
            <p:cNvPr id="444" name=""/>
            <p:cNvSpPr/>
            <p:nvPr/>
          </p:nvSpPr>
          <p:spPr>
            <a:xfrm>
              <a:off x="587232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3600000">
              <a:off x="5681160" y="56764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200000">
              <a:off x="5300280" y="5676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10800000">
              <a:off x="5105520" y="53481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18000000">
              <a:off x="5681520" y="5014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14400000">
              <a:off x="5300640" y="5014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2585880" y="4890960"/>
            <a:ext cx="1147680" cy="1144440"/>
            <a:chOff x="2585880" y="4890960"/>
            <a:chExt cx="1147680" cy="1144440"/>
          </a:xfrm>
        </p:grpSpPr>
        <p:sp>
          <p:nvSpPr>
            <p:cNvPr id="451" name=""/>
            <p:cNvSpPr/>
            <p:nvPr/>
          </p:nvSpPr>
          <p:spPr>
            <a:xfrm>
              <a:off x="335268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3600000">
              <a:off x="3161520" y="5641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200000">
              <a:off x="2780640" y="5641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10800000">
              <a:off x="258588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18000000">
              <a:off x="3161880" y="497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4400000">
              <a:off x="2781000" y="497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057400" y="4129200"/>
            <a:ext cx="1147680" cy="1144440"/>
            <a:chOff x="2057400" y="4129200"/>
            <a:chExt cx="1147680" cy="1144440"/>
          </a:xfrm>
        </p:grpSpPr>
        <p:sp>
          <p:nvSpPr>
            <p:cNvPr id="458" name=""/>
            <p:cNvSpPr/>
            <p:nvPr/>
          </p:nvSpPr>
          <p:spPr>
            <a:xfrm>
              <a:off x="28242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3600000">
              <a:off x="2633040" y="48798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200000">
              <a:off x="2252160" y="48794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0800000">
              <a:off x="2057400" y="455148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18000000">
              <a:off x="2633400" y="42181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4400000">
              <a:off x="2252520" y="42177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2971800" y="3595680"/>
            <a:ext cx="1147680" cy="1144440"/>
            <a:chOff x="2971800" y="3595680"/>
            <a:chExt cx="1147680" cy="1144440"/>
          </a:xfrm>
        </p:grpSpPr>
        <p:sp>
          <p:nvSpPr>
            <p:cNvPr id="465" name=""/>
            <p:cNvSpPr/>
            <p:nvPr/>
          </p:nvSpPr>
          <p:spPr>
            <a:xfrm>
              <a:off x="3738600" y="40179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3600000">
              <a:off x="3547440" y="43462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200000">
              <a:off x="3166560" y="43459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0800000">
              <a:off x="2971800" y="40179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8000000">
              <a:off x="3547800" y="36846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4400000">
              <a:off x="3166920" y="36842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3657600" y="4890960"/>
            <a:ext cx="1147680" cy="1144440"/>
            <a:chOff x="3657600" y="4890960"/>
            <a:chExt cx="1147680" cy="1144440"/>
          </a:xfrm>
        </p:grpSpPr>
        <p:sp>
          <p:nvSpPr>
            <p:cNvPr id="472" name=""/>
            <p:cNvSpPr/>
            <p:nvPr/>
          </p:nvSpPr>
          <p:spPr>
            <a:xfrm>
              <a:off x="442440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3600000">
              <a:off x="4233240" y="564156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200000">
              <a:off x="3852360" y="56412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10800000">
              <a:off x="3657600" y="531324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18000000">
              <a:off x="4233600" y="49798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14400000">
              <a:off x="3852720" y="49795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419720" y="5154480"/>
            <a:ext cx="1147680" cy="1144440"/>
            <a:chOff x="4419720" y="5154480"/>
            <a:chExt cx="1147680" cy="1144440"/>
          </a:xfrm>
        </p:grpSpPr>
        <p:sp>
          <p:nvSpPr>
            <p:cNvPr id="479" name=""/>
            <p:cNvSpPr/>
            <p:nvPr/>
          </p:nvSpPr>
          <p:spPr>
            <a:xfrm>
              <a:off x="5186520" y="55767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3600000">
              <a:off x="4995360" y="590508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200000">
              <a:off x="4614480" y="590472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10800000">
              <a:off x="4419720" y="5576760"/>
              <a:ext cx="380880" cy="30456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5960 h 304560"/>
                <a:gd name="textAreaBottom" fmla="*/ 22860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18000000">
              <a:off x="4995720" y="524340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14400000">
              <a:off x="4614840" y="5243040"/>
              <a:ext cx="380880" cy="304920"/>
            </a:xfrm>
            <a:custGeom>
              <a:avLst/>
              <a:gdLst>
                <a:gd name="textAreaLeft" fmla="*/ 59400 w 380880"/>
                <a:gd name="textAreaRight" fmla="*/ 333360 w 380880"/>
                <a:gd name="textAreaTop" fmla="*/ 76320 h 304920"/>
                <a:gd name="textAreaBottom" fmla="*/ 22896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"/>
          <p:cNvSpPr/>
          <p:nvPr/>
        </p:nvSpPr>
        <p:spPr>
          <a:xfrm rot="1376400">
            <a:off x="2437920" y="3646440"/>
            <a:ext cx="685800" cy="380880"/>
          </a:xfrm>
          <a:custGeom>
            <a:avLst/>
            <a:gdLst>
              <a:gd name="textAreaLeft" fmla="*/ 8568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rot="9985200">
            <a:off x="6019560" y="3657600"/>
            <a:ext cx="685800" cy="380880"/>
          </a:xfrm>
          <a:custGeom>
            <a:avLst/>
            <a:gdLst>
              <a:gd name="textAreaLeft" fmla="*/ 85680 w 685800"/>
              <a:gd name="textAreaRight" fmla="*/ 600120 w 6858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8010-0695-4F6D-B2D9-EC2406DB2D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500"/>
                            </p:stCondLst>
                            <p:childTnLst>
                              <p:par>
                                <p:cTn id="4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7405560" y="3427560"/>
            <a:ext cx="1357560" cy="1071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6345360" y="4319640"/>
            <a:ext cx="1517400" cy="121752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5000760" y="5027760"/>
            <a:ext cx="1719000" cy="152532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Reliable Transport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Delivering task responses from motes to mas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Works transparently across the two ti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hree different types of transport mechanism for different application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Best-effor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delivery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(least overhead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End-to-end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reliable packet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5000"/>
              </a:lnSpc>
              <a:spcBef>
                <a:spcPts val="550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End-to-end </a:t>
            </a: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굴림"/>
              </a:rPr>
              <a:t>reliable stream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굴림"/>
              </a:rPr>
              <a:t> transpor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9837-F233-4956-BF5F-F6149BA358C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utting it all together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380880" y="2066760"/>
            <a:ext cx="4159440" cy="33577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572000" y="2066760"/>
            <a:ext cx="4159080" cy="33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E0C5-06B6-43A4-91E0-9FEAB003BB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1433520" y="4452840"/>
            <a:ext cx="2111400" cy="202428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Application Case Study: PEG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ompare performance with an implementation that performs in-mote multi-node fu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Pursuit-Evasion G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Pursuers (robots) collectively determine the location of evaders, and try to corral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2"/>
          <a:stretch/>
        </p:blipFill>
        <p:spPr>
          <a:xfrm>
            <a:off x="4968720" y="1600200"/>
            <a:ext cx="3395880" cy="452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BAC-9672-447D-A375-45121F148F8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700680" y="217440"/>
            <a:ext cx="2367000" cy="17766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he Problem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ensor data fusion within th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an result in energy-efficien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But implementing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collaborati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fusion on the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m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for each application sepa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an result in fragile systems that are hard to program, debug, re-configure, and man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We learnt this the hard way, through many trial deploymen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B5E9-65FC-45ED-9D2D-CC4BA702BE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Mote-PEG vs. Tenet-PEG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942840" y="2057400"/>
            <a:ext cx="7232400" cy="3665160"/>
            <a:chOff x="942840" y="2057400"/>
            <a:chExt cx="7232400" cy="3665160"/>
          </a:xfrm>
        </p:grpSpPr>
        <p:sp>
          <p:nvSpPr>
            <p:cNvPr id="501" name=""/>
            <p:cNvSpPr/>
            <p:nvPr/>
          </p:nvSpPr>
          <p:spPr>
            <a:xfrm>
              <a:off x="4608720" y="21564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942840" y="2057400"/>
              <a:ext cx="456120" cy="484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46">
                  <a:moveTo>
                    <a:pt x="0" y="0"/>
                  </a:moveTo>
                  <a:arcTo wR="0" hR="0" stAng="16200000" swAng="-5400000"/>
                  <a:lnTo>
                    <a:pt x="0" y="22946"/>
                  </a:lnTo>
                  <a:arcTo wR="0" hR="0" stAng="10800000" swAng="-5400000"/>
                  <a:lnTo>
                    <a:pt x="21600" y="229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98960" y="2057400"/>
              <a:ext cx="381600" cy="484560"/>
            </a:xfrm>
            <a:custGeom>
              <a:avLst/>
              <a:gdLst>
                <a:gd name="textAreaLeft" fmla="*/ 0 w 381600"/>
                <a:gd name="textAreaRight" fmla="*/ 381960 w 3816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422">
                  <a:moveTo>
                    <a:pt x="0" y="0"/>
                  </a:moveTo>
                  <a:arcTo wR="0" hR="0" stAng="16200000" swAng="-5400000"/>
                  <a:lnTo>
                    <a:pt x="0" y="27422"/>
                  </a:lnTo>
                  <a:arcTo wR="0" hR="0" stAng="10800000" swAng="-5400000"/>
                  <a:lnTo>
                    <a:pt x="21600" y="2742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780920" y="2057400"/>
              <a:ext cx="455760" cy="48456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64">
                  <a:moveTo>
                    <a:pt x="0" y="0"/>
                  </a:moveTo>
                  <a:arcTo wR="0" hR="0" stAng="16200000" swAng="-5400000"/>
                  <a:lnTo>
                    <a:pt x="0" y="22964"/>
                  </a:lnTo>
                  <a:arcTo wR="0" hR="0" stAng="10800000" swAng="-5400000"/>
                  <a:lnTo>
                    <a:pt x="21600" y="2296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37040" y="2057400"/>
              <a:ext cx="379800" cy="4845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552">
                  <a:moveTo>
                    <a:pt x="0" y="0"/>
                  </a:moveTo>
                  <a:arcTo wR="0" hR="0" stAng="16200000" swAng="-5400000"/>
                  <a:lnTo>
                    <a:pt x="0" y="27552"/>
                  </a:lnTo>
                  <a:arcTo wR="0" hR="0" stAng="10800000" swAng="-5400000"/>
                  <a:lnTo>
                    <a:pt x="21600" y="2755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616840" y="2057400"/>
              <a:ext cx="457920" cy="484560"/>
            </a:xfrm>
            <a:custGeom>
              <a:avLst/>
              <a:gdLst>
                <a:gd name="textAreaLeft" fmla="*/ 0 w 457920"/>
                <a:gd name="textAreaRight" fmla="*/ 458280 w 457920"/>
                <a:gd name="textAreaTop" fmla="*/ 0 h 484560"/>
                <a:gd name="textAreaBottom" fmla="*/ 484560 h 484560"/>
              </a:gdLst>
              <a:ahLst/>
              <a:rect l="textAreaLeft" t="textAreaTop" r="textAreaRight" b="textAreaBottom"/>
              <a:pathLst>
                <a:path w="21600" h="22856">
                  <a:moveTo>
                    <a:pt x="0" y="0"/>
                  </a:moveTo>
                  <a:arcTo wR="0" hR="0" stAng="16200000" swAng="-5400000"/>
                  <a:lnTo>
                    <a:pt x="0" y="22856"/>
                  </a:lnTo>
                  <a:arcTo wR="0" hR="0" stAng="10800000" swAng="-5400000"/>
                  <a:lnTo>
                    <a:pt x="21600" y="2285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75120" y="2057400"/>
              <a:ext cx="379440" cy="48456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484560"/>
                <a:gd name="textAreaBottom" fmla="*/ 484560 h 484560"/>
              </a:gdLst>
              <a:ahLst/>
              <a:rect l="textAreaLeft" t="textAreaTop" r="textAreaRight" b="textAreaBottom"/>
              <a:pathLst>
                <a:path w="21600" h="27578">
                  <a:moveTo>
                    <a:pt x="0" y="0"/>
                  </a:moveTo>
                  <a:arcTo wR="0" hR="0" stAng="16200000" swAng="-5400000"/>
                  <a:lnTo>
                    <a:pt x="0" y="27578"/>
                  </a:lnTo>
                  <a:arcTo wR="0" hR="0" stAng="10800000" swAng="-5400000"/>
                  <a:lnTo>
                    <a:pt x="21600" y="2757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454920" y="2057400"/>
              <a:ext cx="456120" cy="484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2946">
                  <a:moveTo>
                    <a:pt x="0" y="0"/>
                  </a:moveTo>
                  <a:arcTo wR="0" hR="0" stAng="16200000" swAng="-5400000"/>
                  <a:lnTo>
                    <a:pt x="0" y="22946"/>
                  </a:lnTo>
                  <a:arcTo wR="0" hR="0" stAng="10800000" swAng="-5400000"/>
                  <a:lnTo>
                    <a:pt x="21600" y="2294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11040" y="2057400"/>
              <a:ext cx="381240" cy="48456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448">
                  <a:moveTo>
                    <a:pt x="0" y="0"/>
                  </a:moveTo>
                  <a:arcTo wR="0" hR="0" stAng="16200000" swAng="-5400000"/>
                  <a:lnTo>
                    <a:pt x="0" y="27448"/>
                  </a:lnTo>
                  <a:arcTo wR="0" hR="0" stAng="10800000" swAng="-5400000"/>
                  <a:lnTo>
                    <a:pt x="21600" y="2744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292640" y="2057400"/>
              <a:ext cx="379800" cy="4845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484560"/>
                <a:gd name="textAreaBottom" fmla="*/ 484920 h 484560"/>
              </a:gdLst>
              <a:ahLst/>
              <a:rect l="textAreaLeft" t="textAreaTop" r="textAreaRight" b="textAreaBottom"/>
              <a:pathLst>
                <a:path w="21600" h="27552">
                  <a:moveTo>
                    <a:pt x="0" y="0"/>
                  </a:moveTo>
                  <a:arcTo wR="0" hR="0" stAng="16200000" swAng="-5400000"/>
                  <a:lnTo>
                    <a:pt x="0" y="27552"/>
                  </a:lnTo>
                  <a:arcTo wR="0" hR="0" stAng="10800000" swAng="-5400000"/>
                  <a:lnTo>
                    <a:pt x="21600" y="2755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704600" y="2748600"/>
              <a:ext cx="912240" cy="1106280"/>
            </a:xfrm>
            <a:custGeom>
              <a:avLst/>
              <a:gdLst>
                <a:gd name="textAreaLeft" fmla="*/ 0 w 912240"/>
                <a:gd name="textAreaRight" fmla="*/ 912600 w 912240"/>
                <a:gd name="textAreaTop" fmla="*/ 0 h 1106280"/>
                <a:gd name="textAreaBottom" fmla="*/ 1106280 h 1106280"/>
              </a:gdLst>
              <a:ahLst/>
              <a:rect l="textAreaLeft" t="textAreaTop" r="textAreaRight" b="textAreaBottom"/>
              <a:pathLst>
                <a:path w="21600" h="26193">
                  <a:moveTo>
                    <a:pt x="0" y="0"/>
                  </a:moveTo>
                  <a:arcTo wR="0" hR="0" stAng="16200000" swAng="-5400000"/>
                  <a:lnTo>
                    <a:pt x="0" y="26193"/>
                  </a:lnTo>
                  <a:arcTo wR="0" hR="0" stAng="10800000" swAng="-5400000"/>
                  <a:lnTo>
                    <a:pt x="21600" y="2619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616840" y="2748600"/>
              <a:ext cx="761400" cy="1106280"/>
            </a:xfrm>
            <a:custGeom>
              <a:avLst/>
              <a:gdLst>
                <a:gd name="textAreaLeft" fmla="*/ 0 w 761400"/>
                <a:gd name="textAreaRight" fmla="*/ 761760 w 76140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31379">
                  <a:moveTo>
                    <a:pt x="0" y="0"/>
                  </a:moveTo>
                  <a:arcTo wR="0" hR="0" stAng="16200000" swAng="-5400000"/>
                  <a:lnTo>
                    <a:pt x="0" y="31379"/>
                  </a:lnTo>
                  <a:arcTo wR="0" hR="0" stAng="10800000" swAng="-5400000"/>
                  <a:lnTo>
                    <a:pt x="21600" y="31379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780920" y="4062960"/>
              <a:ext cx="835920" cy="165924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865">
                  <a:moveTo>
                    <a:pt x="0" y="0"/>
                  </a:moveTo>
                  <a:arcTo wR="0" hR="0" stAng="16200000" swAng="-5400000"/>
                  <a:lnTo>
                    <a:pt x="0" y="42865"/>
                  </a:lnTo>
                  <a:arcTo wR="0" hR="0" stAng="10800000" swAng="-5400000"/>
                  <a:lnTo>
                    <a:pt x="21600" y="428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1684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45492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292640" y="4062960"/>
              <a:ext cx="838080" cy="1659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55">
                  <a:moveTo>
                    <a:pt x="0" y="0"/>
                  </a:moveTo>
                  <a:arcTo wR="0" hR="0" stAng="16200000" swAng="-5400000"/>
                  <a:lnTo>
                    <a:pt x="0" y="42755"/>
                  </a:lnTo>
                  <a:arcTo wR="0" hR="0" stAng="10800000" swAng="-5400000"/>
                  <a:lnTo>
                    <a:pt x="21600" y="427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131080" y="4062960"/>
              <a:ext cx="835920" cy="1659240"/>
            </a:xfrm>
            <a:custGeom>
              <a:avLst/>
              <a:gdLst>
                <a:gd name="textAreaLeft" fmla="*/ 0 w 835920"/>
                <a:gd name="textAreaRight" fmla="*/ 836280 w 8359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865">
                  <a:moveTo>
                    <a:pt x="0" y="0"/>
                  </a:moveTo>
                  <a:arcTo wR="0" hR="0" stAng="16200000" swAng="-5400000"/>
                  <a:lnTo>
                    <a:pt x="0" y="42865"/>
                  </a:lnTo>
                  <a:arcTo wR="0" hR="0" stAng="10800000" swAng="-5400000"/>
                  <a:lnTo>
                    <a:pt x="21600" y="4286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6700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804720" y="406296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28400" y="2195280"/>
              <a:ext cx="837720" cy="1659240"/>
            </a:xfrm>
            <a:custGeom>
              <a:avLst/>
              <a:gdLst>
                <a:gd name="textAreaLeft" fmla="*/ 0 w 837720"/>
                <a:gd name="textAreaRight" fmla="*/ 838080 w 83772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73">
                  <a:moveTo>
                    <a:pt x="0" y="0"/>
                  </a:moveTo>
                  <a:arcTo wR="0" hR="0" stAng="16200000" swAng="-5400000"/>
                  <a:lnTo>
                    <a:pt x="0" y="42773"/>
                  </a:lnTo>
                  <a:arcTo wR="0" hR="0" stAng="10800000" swAng="-5400000"/>
                  <a:lnTo>
                    <a:pt x="21600" y="427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890320" y="2195280"/>
              <a:ext cx="838080" cy="1659240"/>
            </a:xfrm>
            <a:custGeom>
              <a:avLst/>
              <a:gdLst>
                <a:gd name="textAreaLeft" fmla="*/ 0 w 838080"/>
                <a:gd name="textAreaRight" fmla="*/ 838440 w 838080"/>
                <a:gd name="textAreaTop" fmla="*/ 0 h 1659240"/>
                <a:gd name="textAreaBottom" fmla="*/ 1659600 h 1659240"/>
              </a:gdLst>
              <a:ahLst/>
              <a:rect l="textAreaLeft" t="textAreaTop" r="textAreaRight" b="textAreaBottom"/>
              <a:pathLst>
                <a:path w="21600" h="42755">
                  <a:moveTo>
                    <a:pt x="0" y="0"/>
                  </a:moveTo>
                  <a:arcTo wR="0" hR="0" stAng="16200000" swAng="-5400000"/>
                  <a:lnTo>
                    <a:pt x="0" y="42755"/>
                  </a:lnTo>
                  <a:arcTo wR="0" hR="0" stAng="10800000" swAng="-5400000"/>
                  <a:lnTo>
                    <a:pt x="21600" y="4275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131080" y="2195280"/>
              <a:ext cx="758880" cy="76176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61760"/>
                <a:gd name="textAreaBottom" fmla="*/ 761760 h 761760"/>
              </a:gdLst>
              <a:ahLst/>
              <a:rect l="textAreaLeft" t="textAreaTop" r="textAreaRight" b="textAreaBottom"/>
              <a:pathLst>
                <a:path w="21600" h="21682">
                  <a:moveTo>
                    <a:pt x="0" y="0"/>
                  </a:moveTo>
                  <a:arcTo wR="0" hR="0" stAng="16200000" swAng="-5400000"/>
                  <a:lnTo>
                    <a:pt x="0" y="21682"/>
                  </a:lnTo>
                  <a:arcTo wR="0" hR="0" stAng="10800000" swAng="-5400000"/>
                  <a:lnTo>
                    <a:pt x="21600" y="21682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131080" y="2957040"/>
              <a:ext cx="758880" cy="89748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897480"/>
                <a:gd name="textAreaBottom" fmla="*/ 897840 h 897480"/>
              </a:gdLst>
              <a:ahLst/>
              <a:rect l="textAreaLeft" t="textAreaTop" r="textAreaRight" b="textAreaBottom"/>
              <a:pathLst>
                <a:path w="21600" h="25543">
                  <a:moveTo>
                    <a:pt x="0" y="0"/>
                  </a:moveTo>
                  <a:arcTo wR="0" hR="0" stAng="16200000" swAng="-5400000"/>
                  <a:lnTo>
                    <a:pt x="0" y="25543"/>
                  </a:lnTo>
                  <a:arcTo wR="0" hR="0" stAng="10800000" swAng="-5400000"/>
                  <a:lnTo>
                    <a:pt x="21600" y="2554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78600" y="2748600"/>
              <a:ext cx="5324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911040" y="2748600"/>
              <a:ext cx="3812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911040" y="3095280"/>
              <a:ext cx="381240" cy="759240"/>
            </a:xfrm>
            <a:custGeom>
              <a:avLst/>
              <a:gdLst>
                <a:gd name="textAreaLeft" fmla="*/ 0 w 381240"/>
                <a:gd name="textAreaRight" fmla="*/ 381600 w 38124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1600" h="42996">
                  <a:moveTo>
                    <a:pt x="0" y="0"/>
                  </a:moveTo>
                  <a:arcTo wR="0" hR="0" stAng="16200000" swAng="-5400000"/>
                  <a:lnTo>
                    <a:pt x="0" y="42996"/>
                  </a:lnTo>
                  <a:arcTo wR="0" hR="0" stAng="10800000" swAng="-5400000"/>
                  <a:lnTo>
                    <a:pt x="21600" y="42996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378600" y="3095280"/>
              <a:ext cx="532440" cy="75924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759240"/>
                <a:gd name="textAreaBottom" fmla="*/ 759600 h 759240"/>
              </a:gdLst>
              <a:ahLst/>
              <a:rect l="textAreaLeft" t="textAreaTop" r="textAreaRight" b="textAreaBottom"/>
              <a:pathLst>
                <a:path w="21600" h="30795">
                  <a:moveTo>
                    <a:pt x="0" y="0"/>
                  </a:moveTo>
                  <a:arcTo wR="0" hR="0" stAng="16200000" swAng="-5400000"/>
                  <a:lnTo>
                    <a:pt x="0" y="30795"/>
                  </a:lnTo>
                  <a:arcTo wR="0" hR="0" stAng="10800000" swAng="-5400000"/>
                  <a:lnTo>
                    <a:pt x="21600" y="3079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292640" y="2748600"/>
              <a:ext cx="532440" cy="3466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92640" y="3095280"/>
              <a:ext cx="532440" cy="34488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92640" y="3440160"/>
              <a:ext cx="532440" cy="414360"/>
            </a:xfrm>
            <a:prstGeom prst="roundRect">
              <a:avLst>
                <a:gd name="adj" fmla="val 0"/>
              </a:avLst>
            </a:pr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566480" y="2748600"/>
              <a:ext cx="229320" cy="1106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104073">
                  <a:moveTo>
                    <a:pt x="0" y="0"/>
                  </a:moveTo>
                  <a:arcTo wR="0" hR="0" stAng="16200000" swAng="-5400000"/>
                  <a:lnTo>
                    <a:pt x="0" y="104073"/>
                  </a:lnTo>
                  <a:arcTo wR="0" hR="0" stAng="10800000" swAng="-5400000"/>
                  <a:lnTo>
                    <a:pt x="21600" y="104073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642800" y="4062960"/>
              <a:ext cx="226800" cy="12441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1244160"/>
                <a:gd name="textAreaBottom" fmla="*/ 1244520 h 1244160"/>
              </a:gdLst>
              <a:ahLst/>
              <a:rect l="textAreaLeft" t="textAreaTop" r="textAreaRight" b="textAreaBottom"/>
              <a:pathLst>
                <a:path w="21600" h="118338">
                  <a:moveTo>
                    <a:pt x="0" y="0"/>
                  </a:moveTo>
                  <a:arcTo wR="0" hR="0" stAng="16200000" swAng="-5400000"/>
                  <a:lnTo>
                    <a:pt x="0" y="118338"/>
                  </a:lnTo>
                  <a:arcTo wR="0" hR="0" stAng="10800000" swAng="-5400000"/>
                  <a:lnTo>
                    <a:pt x="21600" y="118338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795800" y="2748600"/>
              <a:ext cx="379440" cy="1106280"/>
            </a:xfrm>
            <a:custGeom>
              <a:avLst/>
              <a:gdLst>
                <a:gd name="textAreaLeft" fmla="*/ 0 w 379440"/>
                <a:gd name="textAreaRight" fmla="*/ 379800 w 379440"/>
                <a:gd name="textAreaTop" fmla="*/ 0 h 1106280"/>
                <a:gd name="textAreaBottom" fmla="*/ 1106640 h 1106280"/>
              </a:gdLst>
              <a:ahLst/>
              <a:rect l="textAreaLeft" t="textAreaTop" r="textAreaRight" b="textAreaBottom"/>
              <a:pathLst>
                <a:path w="21600" h="62937">
                  <a:moveTo>
                    <a:pt x="0" y="0"/>
                  </a:moveTo>
                  <a:arcTo wR="0" hR="0" stAng="16200000" swAng="-5400000"/>
                  <a:lnTo>
                    <a:pt x="0" y="62937"/>
                  </a:lnTo>
                  <a:arcTo wR="0" hR="0" stAng="10800000" swAng="-5400000"/>
                  <a:lnTo>
                    <a:pt x="21600" y="62937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869600" y="4062960"/>
              <a:ext cx="305640" cy="82944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829440"/>
                <a:gd name="textAreaBottom" fmla="*/ 829800 h 829440"/>
              </a:gdLst>
              <a:ahLst/>
              <a:rect l="textAreaLeft" t="textAreaTop" r="textAreaRight" b="textAreaBottom"/>
              <a:pathLst>
                <a:path w="21600" h="58574">
                  <a:moveTo>
                    <a:pt x="0" y="0"/>
                  </a:moveTo>
                  <a:arcTo wR="0" hR="0" stAng="16200000" swAng="-5400000"/>
                  <a:lnTo>
                    <a:pt x="0" y="58574"/>
                  </a:lnTo>
                  <a:arcTo wR="0" hR="0" stAng="10800000" swAng="-5400000"/>
                  <a:lnTo>
                    <a:pt x="21600" y="58574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475280" y="4960800"/>
              <a:ext cx="305640" cy="415080"/>
            </a:xfrm>
            <a:custGeom>
              <a:avLst/>
              <a:gdLst>
                <a:gd name="textAreaLeft" fmla="*/ 0 w 305640"/>
                <a:gd name="textAreaRight" fmla="*/ 306000 w 305640"/>
                <a:gd name="textAreaTop" fmla="*/ 0 h 415080"/>
                <a:gd name="textAreaBottom" fmla="*/ 415440 h 415080"/>
              </a:gdLst>
              <a:ahLst/>
              <a:rect l="textAreaLeft" t="textAreaTop" r="textAreaRight" b="textAreaBottom"/>
              <a:pathLst>
                <a:path w="21600" h="29325">
                  <a:moveTo>
                    <a:pt x="0" y="0"/>
                  </a:moveTo>
                  <a:arcTo wR="0" hR="0" stAng="16200000" swAng="-5400000"/>
                  <a:lnTo>
                    <a:pt x="0" y="29325"/>
                  </a:lnTo>
                  <a:arcTo wR="0" hR="0" stAng="10800000" swAng="-5400000"/>
                  <a:lnTo>
                    <a:pt x="21600" y="29325"/>
                  </a:lnTo>
                  <a:arcTo wR="0" hR="0" stAng="16200000" swAng="-5400000"/>
                  <a:lnTo>
                    <a:pt x="21600" y="0"/>
                  </a:lnTo>
                  <a:arcTo wR="0" hR="0" stAng="10800000" swAng="-5400000"/>
                  <a:close/>
                </a:path>
              </a:pathLst>
            </a:custGeom>
            <a:noFill/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942840" y="2057400"/>
              <a:ext cx="7232400" cy="3665160"/>
            </a:xfrm>
            <a:custGeom>
              <a:avLst/>
              <a:gdLst/>
              <a:ahLst/>
              <a:rect l="l" t="t" r="r" b="b"/>
              <a:pathLst>
                <a:path w="4560" h="2544">
                  <a:moveTo>
                    <a:pt x="0" y="0"/>
                  </a:moveTo>
                  <a:lnTo>
                    <a:pt x="0" y="480"/>
                  </a:lnTo>
                  <a:lnTo>
                    <a:pt x="288" y="480"/>
                  </a:lnTo>
                  <a:lnTo>
                    <a:pt x="288" y="672"/>
                  </a:lnTo>
                  <a:lnTo>
                    <a:pt x="144" y="672"/>
                  </a:lnTo>
                  <a:cubicBezTo>
                    <a:pt x="106" y="789"/>
                    <a:pt x="60" y="1142"/>
                    <a:pt x="60" y="1374"/>
                  </a:cubicBezTo>
                  <a:cubicBezTo>
                    <a:pt x="60" y="1606"/>
                    <a:pt x="98" y="1949"/>
                    <a:pt x="144" y="2064"/>
                  </a:cubicBezTo>
                  <a:lnTo>
                    <a:pt x="336" y="2064"/>
                  </a:lnTo>
                  <a:lnTo>
                    <a:pt x="336" y="2304"/>
                  </a:lnTo>
                  <a:lnTo>
                    <a:pt x="528" y="2304"/>
                  </a:lnTo>
                  <a:lnTo>
                    <a:pt x="528" y="2544"/>
                  </a:lnTo>
                  <a:lnTo>
                    <a:pt x="4224" y="2544"/>
                  </a:lnTo>
                  <a:lnTo>
                    <a:pt x="4224" y="2256"/>
                  </a:lnTo>
                  <a:lnTo>
                    <a:pt x="4368" y="2256"/>
                  </a:lnTo>
                  <a:lnTo>
                    <a:pt x="4368" y="1968"/>
                  </a:lnTo>
                  <a:lnTo>
                    <a:pt x="4560" y="1968"/>
                  </a:lnTo>
                  <a:lnTo>
                    <a:pt x="4560" y="480"/>
                  </a:lnTo>
                  <a:lnTo>
                    <a:pt x="4176" y="480"/>
                  </a:lnTo>
                  <a:lnTo>
                    <a:pt x="4176" y="96"/>
                  </a:lnTo>
                  <a:lnTo>
                    <a:pt x="2352" y="96"/>
                  </a:lnTo>
                  <a:lnTo>
                    <a:pt x="235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283520" y="25524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804720" y="261036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13840" y="357840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85520" y="225504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56648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04720" y="31636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81040" y="357840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1616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033680" y="39250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78852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42528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11964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26084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59648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978080" y="351000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78080" y="32338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0740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510520" y="385488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30228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974120" y="39250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66360" y="3854880"/>
              <a:ext cx="2268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63680" y="38548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769480" y="37864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60720" y="3786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857240" y="3786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978080" y="261036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01760" y="2265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683520" y="3854880"/>
              <a:ext cx="22716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607560" y="247176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216320" y="247176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978080" y="295704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91104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2196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9316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30228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998440" y="235440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008080" y="247176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39004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04600" y="2471760"/>
              <a:ext cx="2268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413840" y="316368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368960" y="3786480"/>
              <a:ext cx="22716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140000" y="4131360"/>
              <a:ext cx="22860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140000" y="454608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140000" y="544608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454920" y="43398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54920" y="5031000"/>
              <a:ext cx="2286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922120" y="482256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922120" y="5307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313000" y="5307480"/>
              <a:ext cx="22932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2313000" y="4684680"/>
              <a:ext cx="229320" cy="2080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390040" y="406296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780920" y="406296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551600" y="4546080"/>
              <a:ext cx="22932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80920" y="5307480"/>
              <a:ext cx="226800" cy="20628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0000" y="4960800"/>
              <a:ext cx="228600" cy="208440"/>
            </a:xfrm>
            <a:prstGeom prst="ellipse">
              <a:avLst/>
            </a:prstGeom>
            <a:gradFill rotWithShape="0">
              <a:gsLst>
                <a:gs pos="0">
                  <a:srgbClr val="cce7e9"/>
                </a:gs>
                <a:gs pos="100000">
                  <a:srgbClr val="bbe0e3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5181480" y="3809880"/>
            <a:ext cx="612720" cy="612720"/>
          </a:xfrm>
          <a:prstGeom prst="ellipse">
            <a:avLst/>
          </a:prstGeom>
          <a:gradFill rotWithShape="0">
            <a:gsLst>
              <a:gs pos="0">
                <a:srgbClr val="afdb83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Purs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2502360" y="2431080"/>
            <a:ext cx="2770200" cy="1683360"/>
            <a:chOff x="2502360" y="2431080"/>
            <a:chExt cx="2770200" cy="1683360"/>
          </a:xfrm>
        </p:grpSpPr>
        <p:cxnSp>
          <p:nvCxnSpPr>
            <p:cNvPr id="594" name=""/>
            <p:cNvCxnSpPr>
              <a:stCxn id="574" idx="4"/>
              <a:endCxn id="592" idx="2"/>
            </p:cNvCxnSpPr>
            <p:nvPr/>
          </p:nvCxnSpPr>
          <p:spPr>
            <a:xfrm flipH="1" rot="16200000">
              <a:off x="3124080" y="2057760"/>
              <a:ext cx="1435320" cy="26787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5" name=""/>
            <p:cNvCxnSpPr>
              <a:stCxn id="570" idx="4"/>
              <a:endCxn id="592" idx="2"/>
            </p:cNvCxnSpPr>
            <p:nvPr/>
          </p:nvCxnSpPr>
          <p:spPr>
            <a:xfrm flipH="1" rot="16200000">
              <a:off x="3277440" y="2210040"/>
              <a:ext cx="1435320" cy="237384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6" name=""/>
            <p:cNvCxnSpPr>
              <a:stCxn id="572" idx="6"/>
              <a:endCxn id="592" idx="1"/>
            </p:cNvCxnSpPr>
            <p:nvPr/>
          </p:nvCxnSpPr>
          <p:spPr>
            <a:xfrm>
              <a:off x="3227400" y="2457360"/>
              <a:ext cx="2045520" cy="14421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7" name=""/>
            <p:cNvCxnSpPr>
              <a:stCxn id="571" idx="5"/>
              <a:endCxn id="592" idx="1"/>
            </p:cNvCxnSpPr>
            <p:nvPr/>
          </p:nvCxnSpPr>
          <p:spPr>
            <a:xfrm flipH="1" rot="16200000">
              <a:off x="3759840" y="2386080"/>
              <a:ext cx="1250280" cy="1775520"/>
            </a:xfrm>
            <a:prstGeom prst="curvedConnector5">
              <a:avLst>
                <a:gd name="adj1" fmla="val -2390"/>
                <a:gd name="adj2" fmla="val 49989"/>
                <a:gd name="adj3" fmla="val -2390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598" name=""/>
            <p:cNvCxnSpPr>
              <a:stCxn id="565" idx="7"/>
              <a:endCxn id="592" idx="1"/>
            </p:cNvCxnSpPr>
            <p:nvPr/>
          </p:nvCxnSpPr>
          <p:spPr>
            <a:xfrm flipH="1" rot="16200000">
              <a:off x="3838320" y="2464200"/>
              <a:ext cx="1399320" cy="1469160"/>
            </a:xfrm>
            <a:prstGeom prst="curvedConnector5">
              <a:avLst>
                <a:gd name="adj1" fmla="val -4863"/>
                <a:gd name="adj2" fmla="val 50000"/>
                <a:gd name="adj3" fmla="val -4863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599" name=""/>
          <p:cNvGrpSpPr/>
          <p:nvPr/>
        </p:nvGrpSpPr>
        <p:grpSpPr>
          <a:xfrm>
            <a:off x="2389320" y="2347920"/>
            <a:ext cx="1447560" cy="326880"/>
            <a:chOff x="2389320" y="2347920"/>
            <a:chExt cx="1447560" cy="326880"/>
          </a:xfrm>
        </p:grpSpPr>
        <p:sp>
          <p:nvSpPr>
            <p:cNvPr id="600" name=""/>
            <p:cNvSpPr/>
            <p:nvPr/>
          </p:nvSpPr>
          <p:spPr>
            <a:xfrm>
              <a:off x="360828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69388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01920" y="246528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98800" y="234792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2389320" y="2465280"/>
              <a:ext cx="2268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2743200" y="2338920"/>
            <a:ext cx="4811760" cy="3289680"/>
            <a:chOff x="2743200" y="2338920"/>
            <a:chExt cx="4811760" cy="3289680"/>
          </a:xfrm>
        </p:grpSpPr>
        <p:sp>
          <p:nvSpPr>
            <p:cNvPr id="606" name=""/>
            <p:cNvSpPr/>
            <p:nvPr/>
          </p:nvSpPr>
          <p:spPr>
            <a:xfrm rot="20688600">
              <a:off x="6175440" y="3284640"/>
              <a:ext cx="1292040" cy="838080"/>
            </a:xfrm>
            <a:custGeom>
              <a:avLst/>
              <a:gdLst>
                <a:gd name="textAreaLeft" fmla="*/ 201600 w 1292040"/>
                <a:gd name="textAreaRight" fmla="*/ 1130760 w 129204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9535200">
              <a:off x="3580920" y="4572000"/>
              <a:ext cx="1371600" cy="83808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10800000">
              <a:off x="2743200" y="3733920"/>
              <a:ext cx="1905120" cy="838080"/>
            </a:xfrm>
            <a:custGeom>
              <a:avLst/>
              <a:gdLst>
                <a:gd name="textAreaLeft" fmla="*/ 297720 w 1905120"/>
                <a:gd name="textAreaRight" fmla="*/ 1667160 w 1905120"/>
                <a:gd name="textAreaTop" fmla="*/ 209520 h 838080"/>
                <a:gd name="textAreaBottom" fmla="*/ 628560 h 838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3012200">
              <a:off x="3657600" y="2666520"/>
              <a:ext cx="1371600" cy="838440"/>
            </a:xfrm>
            <a:custGeom>
              <a:avLst/>
              <a:gdLst>
                <a:gd name="textAreaLeft" fmla="*/ 214200 w 1371600"/>
                <a:gd name="textAreaRight" fmla="*/ 1200240 w 1371600"/>
                <a:gd name="textAreaTop" fmla="*/ 209520 h 838440"/>
                <a:gd name="textAreaBottom" fmla="*/ 628920 h 838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ccff99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2209680" y="1843200"/>
            <a:ext cx="1752840" cy="36648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vader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410080" y="4572000"/>
            <a:ext cx="1828800" cy="366840"/>
          </a:xfrm>
          <a:prstGeom prst="rect">
            <a:avLst/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-task the m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000240" y="2352600"/>
            <a:ext cx="532080" cy="327240"/>
            <a:chOff x="3000240" y="2352600"/>
            <a:chExt cx="532080" cy="327240"/>
          </a:xfrm>
        </p:grpSpPr>
        <p:sp>
          <p:nvSpPr>
            <p:cNvPr id="613" name=""/>
            <p:cNvSpPr/>
            <p:nvPr/>
          </p:nvSpPr>
          <p:spPr>
            <a:xfrm>
              <a:off x="3303720" y="247032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000240" y="235260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3212640" y="2444760"/>
            <a:ext cx="2045160" cy="1441800"/>
            <a:chOff x="3212640" y="2444760"/>
            <a:chExt cx="2045160" cy="1441800"/>
          </a:xfrm>
        </p:grpSpPr>
        <p:cxnSp>
          <p:nvCxnSpPr>
            <p:cNvPr id="616" name=""/>
            <p:cNvCxnSpPr/>
            <p:nvPr/>
          </p:nvCxnSpPr>
          <p:spPr>
            <a:xfrm>
              <a:off x="3212640" y="2444760"/>
              <a:ext cx="2045160" cy="1442160"/>
            </a:xfrm>
            <a:prstGeom prst="curvedConnector2">
              <a:avLst/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617" name=""/>
            <p:cNvCxnSpPr/>
            <p:nvPr/>
          </p:nvCxnSpPr>
          <p:spPr>
            <a:xfrm flipH="1" rot="16200000">
              <a:off x="3745440" y="2373840"/>
              <a:ext cx="1249920" cy="1775520"/>
            </a:xfrm>
            <a:prstGeom prst="curvedConnector5">
              <a:avLst>
                <a:gd name="adj1" fmla="val -2391"/>
                <a:gd name="adj2" fmla="val 49989"/>
                <a:gd name="adj3" fmla="val -2391"/>
              </a:avLst>
            </a:prstGeom>
            <a:ln w="2844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618" name=""/>
          <p:cNvSpPr/>
          <p:nvPr/>
        </p:nvSpPr>
        <p:spPr>
          <a:xfrm>
            <a:off x="5410080" y="4572000"/>
            <a:ext cx="1828800" cy="366840"/>
          </a:xfrm>
          <a:prstGeom prst="rect">
            <a:avLst/>
          </a:prstGeom>
          <a:solidFill>
            <a:srgbClr val="ccff99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the mo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819520" y="2514600"/>
            <a:ext cx="609480" cy="609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d4161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Ev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81480" y="3809880"/>
            <a:ext cx="612720" cy="612720"/>
          </a:xfrm>
          <a:prstGeom prst="ellipse">
            <a:avLst/>
          </a:prstGeom>
          <a:gradFill rotWithShape="0">
            <a:gsLst>
              <a:gs pos="0">
                <a:srgbClr val="afdb83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3240">
            <a:solidFill>
              <a:srgbClr val="cc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Purs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2390760" y="2352600"/>
            <a:ext cx="1447560" cy="326880"/>
            <a:chOff x="2390760" y="2352600"/>
            <a:chExt cx="1447560" cy="326880"/>
          </a:xfrm>
        </p:grpSpPr>
        <p:sp>
          <p:nvSpPr>
            <p:cNvPr id="622" name=""/>
            <p:cNvSpPr/>
            <p:nvPr/>
          </p:nvSpPr>
          <p:spPr>
            <a:xfrm>
              <a:off x="360972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9532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303360" y="246996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000240" y="2352600"/>
              <a:ext cx="2286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390760" y="2469960"/>
              <a:ext cx="226800" cy="209520"/>
            </a:xfrm>
            <a:prstGeom prst="ellipse">
              <a:avLst/>
            </a:prstGeom>
            <a:solidFill>
              <a:srgbClr val="ff9900"/>
            </a:solidFill>
            <a:ln w="3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2209680" y="1828800"/>
            <a:ext cx="1752840" cy="36684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Evader Det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819520" y="2514600"/>
            <a:ext cx="609480" cy="609480"/>
          </a:xfrm>
          <a:prstGeom prst="ellipse">
            <a:avLst/>
          </a:prstGeom>
          <a:gradFill rotWithShape="0">
            <a:gsLst>
              <a:gs pos="0">
                <a:srgbClr val="a50021"/>
              </a:gs>
              <a:gs pos="100000">
                <a:srgbClr val="d41616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Ev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209680" y="1461960"/>
            <a:ext cx="1752840" cy="366840"/>
          </a:xfrm>
          <a:prstGeom prst="rect">
            <a:avLst/>
          </a:prstGeom>
          <a:solidFill>
            <a:srgbClr val="ffff66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eader 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2390760" y="2347920"/>
            <a:ext cx="1447560" cy="326880"/>
            <a:chOff x="2390760" y="2347920"/>
            <a:chExt cx="1447560" cy="326880"/>
          </a:xfrm>
        </p:grpSpPr>
        <p:sp>
          <p:nvSpPr>
            <p:cNvPr id="631" name=""/>
            <p:cNvSpPr/>
            <p:nvPr/>
          </p:nvSpPr>
          <p:spPr>
            <a:xfrm>
              <a:off x="360972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9532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03360" y="246528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000240" y="2347920"/>
              <a:ext cx="2286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390760" y="2465280"/>
              <a:ext cx="226800" cy="209520"/>
            </a:xfrm>
            <a:prstGeom prst="ellipse">
              <a:avLst/>
            </a:prstGeom>
            <a:solidFill>
              <a:srgbClr val="ffff66"/>
            </a:solidFill>
            <a:ln w="3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819520" y="1978200"/>
            <a:ext cx="612720" cy="612720"/>
          </a:xfrm>
          <a:prstGeom prst="ellipse">
            <a:avLst/>
          </a:prstGeom>
          <a:solidFill>
            <a:srgbClr val="ffcc66"/>
          </a:solidFill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굴림"/>
              </a:rPr>
              <a:t>L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7" name=""/>
          <p:cNvCxnSpPr>
            <a:stCxn id="636" idx="5"/>
            <a:endCxn id="620" idx="1"/>
          </p:cNvCxnSpPr>
          <p:nvPr/>
        </p:nvCxnSpPr>
        <p:spPr>
          <a:xfrm flipH="1" rot="16200000">
            <a:off x="3605760" y="2234880"/>
            <a:ext cx="1400760" cy="1931400"/>
          </a:xfrm>
          <a:prstGeom prst="curvedConnector5">
            <a:avLst>
              <a:gd name="adj1" fmla="val 15758"/>
              <a:gd name="adj2" fmla="val 50000"/>
              <a:gd name="adj3" fmla="val 15758"/>
            </a:avLst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638" name=""/>
          <p:cNvSpPr/>
          <p:nvPr/>
        </p:nvSpPr>
        <p:spPr>
          <a:xfrm>
            <a:off x="3414600" y="5791320"/>
            <a:ext cx="2286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Mote-P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414600" y="5791320"/>
            <a:ext cx="2286000" cy="685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Tenet-P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8DE-3DE2-432B-A4B6-1F8B5BD6D5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762120" y="5486400"/>
            <a:ext cx="35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rror in Position Estim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4876920" y="5486400"/>
            <a:ext cx="39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Reporting Message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EG Results-1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304920" y="1447920"/>
          <a:ext cx="4038480" cy="40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4038480" cy="40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"/>
          <p:cNvSpPr/>
          <p:nvPr/>
        </p:nvSpPr>
        <p:spPr>
          <a:xfrm>
            <a:off x="838080" y="5334120"/>
            <a:ext cx="3429000" cy="761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omparable positional estimate err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105520" y="5334120"/>
            <a:ext cx="3429000" cy="761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Comparable reporting message overhea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7" name=""/>
          <p:cNvGraphicFramePr/>
          <p:nvPr/>
        </p:nvGraphicFramePr>
        <p:xfrm>
          <a:off x="4648320" y="1371600"/>
          <a:ext cx="3647880" cy="401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371600"/>
                    <a:ext cx="364788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1D0-26D0-4845-8793-8BC167E7A5F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PEG Results-2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1962000" y="1716120"/>
            <a:ext cx="4743720" cy="300816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2819520" y="4952880"/>
            <a:ext cx="3809880" cy="5493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굴림"/>
              </a:rPr>
              <a:t>Lat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굴림"/>
              </a:rPr>
              <a:t> is nearly iden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038240" y="2819520"/>
            <a:ext cx="7086600" cy="129528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A Tenet implementation of an application can perform as well as an implementation with     in-mote collaborative 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A92C-BBBF-4968-B8F3-6852FC19CED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indefinite"/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indefinite"/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1454040" y="2562120"/>
            <a:ext cx="641520" cy="654120"/>
            <a:chOff x="1454040" y="2562120"/>
            <a:chExt cx="641520" cy="654120"/>
          </a:xfrm>
        </p:grpSpPr>
        <p:sp>
          <p:nvSpPr>
            <p:cNvPr id="654" name=""/>
            <p:cNvSpPr/>
            <p:nvPr/>
          </p:nvSpPr>
          <p:spPr>
            <a:xfrm>
              <a:off x="1454040" y="2562120"/>
              <a:ext cx="641520" cy="654120"/>
            </a:xfrm>
            <a:prstGeom prst="ellipse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892160" y="2940120"/>
              <a:ext cx="10656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  <a:ea typeface="굴림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924200" y="2800440"/>
              <a:ext cx="10620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5f5f5f"/>
                  </a:solidFill>
                  <a:latin typeface="Arial"/>
                  <a:ea typeface="굴림"/>
                </a:rPr>
                <a:t>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45200" y="2797560"/>
              <a:ext cx="253080" cy="145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1623240" y="2835360"/>
              <a:ext cx="296280" cy="72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3135600" cy="235296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Real-world Tenet deployment on </a:t>
            </a:r>
            <a:br>
              <a:rPr sz="36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굴림"/>
              </a:rPr>
              <a:t>Vincent Thomas Bridge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71360" y="3343320"/>
            <a:ext cx="8915400" cy="1057320"/>
          </a:xfrm>
          <a:custGeom>
            <a:avLst/>
            <a:gdLst/>
            <a:ahLst/>
            <a:rect l="l" t="t" r="r" b="b"/>
            <a:pathLst>
              <a:path w="5616" h="666">
                <a:moveTo>
                  <a:pt x="0" y="666"/>
                </a:moveTo>
                <a:cubicBezTo>
                  <a:pt x="232" y="623"/>
                  <a:pt x="911" y="490"/>
                  <a:pt x="1392" y="410"/>
                </a:cubicBezTo>
                <a:cubicBezTo>
                  <a:pt x="1873" y="330"/>
                  <a:pt x="2398" y="250"/>
                  <a:pt x="2888" y="186"/>
                </a:cubicBezTo>
                <a:cubicBezTo>
                  <a:pt x="3378" y="122"/>
                  <a:pt x="3877" y="48"/>
                  <a:pt x="4332" y="24"/>
                </a:cubicBezTo>
                <a:cubicBezTo>
                  <a:pt x="4787" y="0"/>
                  <a:pt x="5349" y="38"/>
                  <a:pt x="5616" y="42"/>
                </a:cubicBezTo>
              </a:path>
            </a:pathLst>
          </a:custGeom>
          <a:noFill/>
          <a:ln w="10152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2457000" y="3257640"/>
            <a:ext cx="265680" cy="1657080"/>
            <a:chOff x="2457000" y="3257640"/>
            <a:chExt cx="265680" cy="1657080"/>
          </a:xfrm>
        </p:grpSpPr>
        <p:sp>
          <p:nvSpPr>
            <p:cNvPr id="663" name=""/>
            <p:cNvSpPr/>
            <p:nvPr/>
          </p:nvSpPr>
          <p:spPr>
            <a:xfrm rot="5400000">
              <a:off x="1771200" y="3943440"/>
              <a:ext cx="1600200" cy="228600"/>
            </a:xfrm>
            <a:prstGeom prst="parallelogram">
              <a:avLst>
                <a:gd name="adj" fmla="val 38176"/>
              </a:avLst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5400000">
              <a:off x="2495160" y="32194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5400000">
              <a:off x="2495160" y="36766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5400000">
              <a:off x="2494800" y="420984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5400000">
              <a:off x="2494800" y="443844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5400000">
              <a:off x="1942200" y="4077360"/>
              <a:ext cx="1524240" cy="36720"/>
            </a:xfrm>
            <a:prstGeom prst="parallelogram">
              <a:avLst>
                <a:gd name="adj" fmla="val 0"/>
              </a:avLst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5400000">
              <a:off x="2495160" y="472428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7029000" y="2647800"/>
            <a:ext cx="265680" cy="1657080"/>
            <a:chOff x="7029000" y="2647800"/>
            <a:chExt cx="265680" cy="1657080"/>
          </a:xfrm>
        </p:grpSpPr>
        <p:sp>
          <p:nvSpPr>
            <p:cNvPr id="671" name=""/>
            <p:cNvSpPr/>
            <p:nvPr/>
          </p:nvSpPr>
          <p:spPr>
            <a:xfrm rot="5400000">
              <a:off x="6343200" y="3333600"/>
              <a:ext cx="1600200" cy="228600"/>
            </a:xfrm>
            <a:prstGeom prst="parallelogram">
              <a:avLst>
                <a:gd name="adj" fmla="val 38176"/>
              </a:avLst>
            </a:prstGeom>
            <a:noFill/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5400000">
              <a:off x="7067160" y="26096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5400000">
              <a:off x="7067160" y="30668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5400000">
              <a:off x="7066800" y="360000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5400000">
              <a:off x="7066800" y="3828600"/>
              <a:ext cx="152640" cy="228600"/>
            </a:xfrm>
            <a:prstGeom prst="parallelogram">
              <a:avLst>
                <a:gd name="adj" fmla="val 48958"/>
              </a:avLst>
            </a:prstGeom>
            <a:solidFill>
              <a:srgbClr val="808080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5400000">
              <a:off x="6514200" y="3467520"/>
              <a:ext cx="1524240" cy="36720"/>
            </a:xfrm>
            <a:prstGeom prst="parallelogram">
              <a:avLst>
                <a:gd name="adj" fmla="val 0"/>
              </a:avLst>
            </a:prstGeom>
            <a:solidFill>
              <a:srgbClr val="dddddd"/>
            </a:solidFill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5400000">
              <a:off x="7067160" y="4114440"/>
              <a:ext cx="152280" cy="228600"/>
            </a:xfrm>
            <a:prstGeom prst="parallelogram">
              <a:avLst>
                <a:gd name="adj" fmla="val 48958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28600" y="2647800"/>
            <a:ext cx="8934480" cy="1828800"/>
            <a:chOff x="228600" y="2647800"/>
            <a:chExt cx="8934480" cy="1828800"/>
          </a:xfrm>
        </p:grpSpPr>
        <p:sp>
          <p:nvSpPr>
            <p:cNvPr id="679" name=""/>
            <p:cNvSpPr/>
            <p:nvPr/>
          </p:nvSpPr>
          <p:spPr>
            <a:xfrm>
              <a:off x="7029360" y="2647800"/>
              <a:ext cx="2133720" cy="609840"/>
            </a:xfrm>
            <a:custGeom>
              <a:avLst/>
              <a:gdLst/>
              <a:ahLst/>
              <a:rect l="l" t="t" r="r" b="b"/>
              <a:pathLst>
                <a:path w="1188" h="414">
                  <a:moveTo>
                    <a:pt x="0" y="0"/>
                  </a:moveTo>
                  <a:cubicBezTo>
                    <a:pt x="78" y="47"/>
                    <a:pt x="270" y="213"/>
                    <a:pt x="468" y="282"/>
                  </a:cubicBezTo>
                  <a:cubicBezTo>
                    <a:pt x="666" y="351"/>
                    <a:pt x="1038" y="387"/>
                    <a:pt x="1188" y="41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8320" y="3257640"/>
              <a:ext cx="2219040" cy="1181160"/>
            </a:xfrm>
            <a:custGeom>
              <a:avLst/>
              <a:gdLst/>
              <a:ahLst/>
              <a:rect l="l" t="t" r="r" b="b"/>
              <a:pathLst>
                <a:path w="1398" h="744">
                  <a:moveTo>
                    <a:pt x="1398" y="0"/>
                  </a:moveTo>
                  <a:cubicBezTo>
                    <a:pt x="1315" y="64"/>
                    <a:pt x="1054" y="283"/>
                    <a:pt x="900" y="384"/>
                  </a:cubicBezTo>
                  <a:cubicBezTo>
                    <a:pt x="746" y="485"/>
                    <a:pt x="624" y="546"/>
                    <a:pt x="474" y="606"/>
                  </a:cubicBezTo>
                  <a:cubicBezTo>
                    <a:pt x="324" y="666"/>
                    <a:pt x="99" y="715"/>
                    <a:pt x="0" y="74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28600" y="3352680"/>
              <a:ext cx="2448000" cy="1123920"/>
            </a:xfrm>
            <a:custGeom>
              <a:avLst/>
              <a:gdLst/>
              <a:ahLst/>
              <a:rect l="l" t="t" r="r" b="b"/>
              <a:pathLst>
                <a:path w="1542" h="708">
                  <a:moveTo>
                    <a:pt x="1542" y="0"/>
                  </a:moveTo>
                  <a:cubicBezTo>
                    <a:pt x="1452" y="62"/>
                    <a:pt x="1167" y="275"/>
                    <a:pt x="1002" y="372"/>
                  </a:cubicBezTo>
                  <a:cubicBezTo>
                    <a:pt x="837" y="469"/>
                    <a:pt x="719" y="526"/>
                    <a:pt x="552" y="582"/>
                  </a:cubicBezTo>
                  <a:cubicBezTo>
                    <a:pt x="385" y="638"/>
                    <a:pt x="115" y="682"/>
                    <a:pt x="0" y="708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457360" y="2647800"/>
              <a:ext cx="4572000" cy="822600"/>
            </a:xfrm>
            <a:custGeom>
              <a:avLst/>
              <a:gdLst/>
              <a:ahLst/>
              <a:rect l="l" t="t" r="r" b="b"/>
              <a:pathLst>
                <a:path w="2880" h="518">
                  <a:moveTo>
                    <a:pt x="0" y="384"/>
                  </a:moveTo>
                  <a:cubicBezTo>
                    <a:pt x="123" y="400"/>
                    <a:pt x="479" y="462"/>
                    <a:pt x="738" y="480"/>
                  </a:cubicBezTo>
                  <a:cubicBezTo>
                    <a:pt x="997" y="498"/>
                    <a:pt x="1309" y="518"/>
                    <a:pt x="1554" y="492"/>
                  </a:cubicBezTo>
                  <a:cubicBezTo>
                    <a:pt x="1799" y="466"/>
                    <a:pt x="1987" y="406"/>
                    <a:pt x="2208" y="324"/>
                  </a:cubicBezTo>
                  <a:cubicBezTo>
                    <a:pt x="2429" y="242"/>
                    <a:pt x="2740" y="67"/>
                    <a:pt x="2880" y="0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685960" y="2724120"/>
              <a:ext cx="4572000" cy="822240"/>
            </a:xfrm>
            <a:custGeom>
              <a:avLst/>
              <a:gdLst/>
              <a:ahLst/>
              <a:rect l="l" t="t" r="r" b="b"/>
              <a:pathLst>
                <a:path w="2880" h="518">
                  <a:moveTo>
                    <a:pt x="0" y="384"/>
                  </a:moveTo>
                  <a:cubicBezTo>
                    <a:pt x="123" y="400"/>
                    <a:pt x="479" y="462"/>
                    <a:pt x="738" y="480"/>
                  </a:cubicBezTo>
                  <a:cubicBezTo>
                    <a:pt x="997" y="498"/>
                    <a:pt x="1309" y="518"/>
                    <a:pt x="1554" y="492"/>
                  </a:cubicBezTo>
                  <a:cubicBezTo>
                    <a:pt x="1799" y="466"/>
                    <a:pt x="1987" y="406"/>
                    <a:pt x="2208" y="324"/>
                  </a:cubicBezTo>
                  <a:cubicBezTo>
                    <a:pt x="2429" y="242"/>
                    <a:pt x="2740" y="67"/>
                    <a:pt x="2880" y="0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257960" y="2724120"/>
              <a:ext cx="1886040" cy="657360"/>
            </a:xfrm>
            <a:custGeom>
              <a:avLst/>
              <a:gdLst/>
              <a:ahLst/>
              <a:rect l="l" t="t" r="r" b="b"/>
              <a:pathLst>
                <a:path w="1188" h="414">
                  <a:moveTo>
                    <a:pt x="0" y="0"/>
                  </a:moveTo>
                  <a:cubicBezTo>
                    <a:pt x="103" y="48"/>
                    <a:pt x="420" y="219"/>
                    <a:pt x="618" y="288"/>
                  </a:cubicBezTo>
                  <a:cubicBezTo>
                    <a:pt x="816" y="357"/>
                    <a:pt x="1069" y="388"/>
                    <a:pt x="1188" y="414"/>
                  </a:cubicBezTo>
                </a:path>
              </a:pathLst>
            </a:custGeom>
            <a:noFill/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2647800" y="2952360"/>
            <a:ext cx="2895480" cy="1219320"/>
            <a:chOff x="2647800" y="2952360"/>
            <a:chExt cx="2895480" cy="1219320"/>
          </a:xfrm>
        </p:grpSpPr>
        <p:sp>
          <p:nvSpPr>
            <p:cNvPr id="686" name=""/>
            <p:cNvSpPr/>
            <p:nvPr/>
          </p:nvSpPr>
          <p:spPr>
            <a:xfrm flipV="1">
              <a:off x="2647800" y="2952360"/>
              <a:ext cx="0" cy="1219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5543280" y="2952360"/>
              <a:ext cx="0" cy="7621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647800" y="3029040"/>
              <a:ext cx="289548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904920" y="2952720"/>
              <a:ext cx="380880" cy="10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57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057560" y="3143160"/>
            <a:ext cx="609840" cy="571680"/>
            <a:chOff x="4057560" y="3143160"/>
            <a:chExt cx="609840" cy="571680"/>
          </a:xfrm>
        </p:grpSpPr>
        <p:sp>
          <p:nvSpPr>
            <p:cNvPr id="691" name=""/>
            <p:cNvSpPr/>
            <p:nvPr/>
          </p:nvSpPr>
          <p:spPr>
            <a:xfrm flipV="1">
              <a:off x="4667400" y="3181320"/>
              <a:ext cx="0" cy="45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4057560" y="3181320"/>
              <a:ext cx="0" cy="533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057560" y="3219480"/>
              <a:ext cx="6098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72040" y="3143160"/>
              <a:ext cx="380880" cy="15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12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4565520" y="3885840"/>
            <a:ext cx="304920" cy="324360"/>
            <a:chOff x="4565520" y="3885840"/>
            <a:chExt cx="304920" cy="324360"/>
          </a:xfrm>
        </p:grpSpPr>
        <p:sp>
          <p:nvSpPr>
            <p:cNvPr id="696" name=""/>
            <p:cNvSpPr/>
            <p:nvPr/>
          </p:nvSpPr>
          <p:spPr>
            <a:xfrm flipV="1">
              <a:off x="4635360" y="3924000"/>
              <a:ext cx="0" cy="1522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4788000" y="3885840"/>
              <a:ext cx="0" cy="228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635360" y="4025880"/>
              <a:ext cx="15264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sm" type="arrow" w="med"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4565520" y="4133880"/>
              <a:ext cx="304920" cy="7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30 f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809640" y="4400640"/>
            <a:ext cx="2028960" cy="1761840"/>
            <a:chOff x="809640" y="4400640"/>
            <a:chExt cx="2028960" cy="1761840"/>
          </a:xfrm>
        </p:grpSpPr>
        <p:sp>
          <p:nvSpPr>
            <p:cNvPr id="701" name=""/>
            <p:cNvSpPr/>
            <p:nvPr/>
          </p:nvSpPr>
          <p:spPr>
            <a:xfrm>
              <a:off x="809640" y="4400640"/>
              <a:ext cx="2028960" cy="1761840"/>
            </a:xfrm>
            <a:prstGeom prst="wedgeRectCallout">
              <a:avLst>
                <a:gd name="adj1" fmla="val 35250"/>
                <a:gd name="adj2" fmla="val -56250"/>
              </a:avLst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09640" y="4400640"/>
              <a:ext cx="2028960" cy="271440"/>
            </a:xfrm>
            <a:prstGeom prst="rect">
              <a:avLst/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  <a:ea typeface="굴림"/>
                </a:rPr>
                <a:t>Mo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3" name="" descr=""/>
            <p:cNvPicPr/>
            <p:nvPr/>
          </p:nvPicPr>
          <p:blipFill>
            <a:blip r:embed="rId2">
              <a:lum bright="20000"/>
            </a:blip>
            <a:stretch/>
          </p:blipFill>
          <p:spPr>
            <a:xfrm>
              <a:off x="816120" y="4705200"/>
              <a:ext cx="2011320" cy="1457280"/>
            </a:xfrm>
            <a:prstGeom prst="rect">
              <a:avLst/>
            </a:prstGeom>
            <a:ln w="9360">
              <a:solidFill>
                <a:srgbClr val="c0c0c0"/>
              </a:solidFill>
              <a:miter/>
            </a:ln>
          </p:spPr>
        </p:pic>
      </p:grpSp>
      <p:grpSp>
        <p:nvGrpSpPr>
          <p:cNvPr id="704" name=""/>
          <p:cNvGrpSpPr/>
          <p:nvPr/>
        </p:nvGrpSpPr>
        <p:grpSpPr>
          <a:xfrm>
            <a:off x="2610000" y="3537000"/>
            <a:ext cx="2971800" cy="692280"/>
            <a:chOff x="2610000" y="3537000"/>
            <a:chExt cx="2971800" cy="692280"/>
          </a:xfrm>
        </p:grpSpPr>
        <p:sp>
          <p:nvSpPr>
            <p:cNvPr id="705" name=""/>
            <p:cNvSpPr/>
            <p:nvPr/>
          </p:nvSpPr>
          <p:spPr>
            <a:xfrm>
              <a:off x="2610000" y="415296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762280" y="412920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914920" y="4100760"/>
              <a:ext cx="7596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067200" y="407700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219480" y="404820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3372120" y="402444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524400" y="399132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676680" y="395316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29320" y="392436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981600" y="390708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33880" y="38782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286520" y="385776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438800" y="3848400"/>
              <a:ext cx="7632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591080" y="38242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43720" y="3795840"/>
              <a:ext cx="7596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896000" y="37720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5048280" y="377208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200920" y="3748320"/>
              <a:ext cx="75960" cy="7596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353200" y="371952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505480" y="3695760"/>
              <a:ext cx="76320" cy="763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25" name=""/>
            <p:cNvCxnSpPr>
              <a:stCxn id="705" idx="0"/>
              <a:endCxn id="726" idx="4"/>
            </p:cNvCxnSpPr>
            <p:nvPr/>
          </p:nvCxnSpPr>
          <p:spPr>
            <a:xfrm flipV="1">
              <a:off x="2647800" y="4047480"/>
              <a:ext cx="191160" cy="1054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7" name=""/>
            <p:cNvCxnSpPr>
              <a:stCxn id="706" idx="0"/>
              <a:endCxn id="726" idx="4"/>
            </p:cNvCxnSpPr>
            <p:nvPr/>
          </p:nvCxnSpPr>
          <p:spPr>
            <a:xfrm flipV="1">
              <a:off x="2800440" y="4047840"/>
              <a:ext cx="38880" cy="813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8" name=""/>
            <p:cNvCxnSpPr>
              <a:stCxn id="726" idx="4"/>
              <a:endCxn id="708" idx="0"/>
            </p:cNvCxnSpPr>
            <p:nvPr/>
          </p:nvCxnSpPr>
          <p:spPr>
            <a:xfrm>
              <a:off x="2838240" y="4048200"/>
              <a:ext cx="267120" cy="29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29" name=""/>
            <p:cNvCxnSpPr>
              <a:stCxn id="726" idx="4"/>
              <a:endCxn id="707" idx="0"/>
            </p:cNvCxnSpPr>
            <p:nvPr/>
          </p:nvCxnSpPr>
          <p:spPr>
            <a:xfrm>
              <a:off x="2838600" y="4048200"/>
              <a:ext cx="115200" cy="532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26" name=""/>
            <p:cNvSpPr/>
            <p:nvPr/>
          </p:nvSpPr>
          <p:spPr>
            <a:xfrm>
              <a:off x="2800440" y="396252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0" name=""/>
            <p:cNvCxnSpPr>
              <a:stCxn id="709" idx="0"/>
              <a:endCxn id="731" idx="4"/>
            </p:cNvCxnSpPr>
            <p:nvPr/>
          </p:nvCxnSpPr>
          <p:spPr>
            <a:xfrm flipV="1">
              <a:off x="3257280" y="3933360"/>
              <a:ext cx="191160" cy="1148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2" name=""/>
            <p:cNvCxnSpPr>
              <a:stCxn id="710" idx="0"/>
              <a:endCxn id="731" idx="4"/>
            </p:cNvCxnSpPr>
            <p:nvPr/>
          </p:nvCxnSpPr>
          <p:spPr>
            <a:xfrm flipV="1">
              <a:off x="3409920" y="3933360"/>
              <a:ext cx="38520" cy="910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3" name=""/>
            <p:cNvCxnSpPr>
              <a:stCxn id="731" idx="4"/>
              <a:endCxn id="712" idx="0"/>
            </p:cNvCxnSpPr>
            <p:nvPr/>
          </p:nvCxnSpPr>
          <p:spPr>
            <a:xfrm>
              <a:off x="3447720" y="3933720"/>
              <a:ext cx="267120" cy="19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4" name=""/>
            <p:cNvCxnSpPr>
              <a:stCxn id="731" idx="4"/>
              <a:endCxn id="711" idx="0"/>
            </p:cNvCxnSpPr>
            <p:nvPr/>
          </p:nvCxnSpPr>
          <p:spPr>
            <a:xfrm>
              <a:off x="3448080" y="3933720"/>
              <a:ext cx="115200" cy="57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31" name=""/>
            <p:cNvSpPr/>
            <p:nvPr/>
          </p:nvSpPr>
          <p:spPr>
            <a:xfrm>
              <a:off x="3410280" y="384840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35" name=""/>
            <p:cNvCxnSpPr>
              <a:stCxn id="713" idx="0"/>
              <a:endCxn id="736" idx="4"/>
            </p:cNvCxnSpPr>
            <p:nvPr/>
          </p:nvCxnSpPr>
          <p:spPr>
            <a:xfrm flipV="1">
              <a:off x="3867120" y="3823920"/>
              <a:ext cx="191160" cy="1008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7" name=""/>
            <p:cNvCxnSpPr>
              <a:stCxn id="714" idx="0"/>
              <a:endCxn id="736" idx="4"/>
            </p:cNvCxnSpPr>
            <p:nvPr/>
          </p:nvCxnSpPr>
          <p:spPr>
            <a:xfrm flipV="1">
              <a:off x="4019760" y="3823920"/>
              <a:ext cx="38880" cy="83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8" name=""/>
            <p:cNvCxnSpPr>
              <a:stCxn id="736" idx="4"/>
              <a:endCxn id="716" idx="0"/>
            </p:cNvCxnSpPr>
            <p:nvPr/>
          </p:nvCxnSpPr>
          <p:spPr>
            <a:xfrm>
              <a:off x="4057560" y="3823920"/>
              <a:ext cx="267120" cy="34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39" name=""/>
            <p:cNvCxnSpPr>
              <a:stCxn id="736" idx="4"/>
              <a:endCxn id="715" idx="0"/>
            </p:cNvCxnSpPr>
            <p:nvPr/>
          </p:nvCxnSpPr>
          <p:spPr>
            <a:xfrm>
              <a:off x="4057560" y="3824280"/>
              <a:ext cx="114840" cy="547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36" name=""/>
            <p:cNvSpPr/>
            <p:nvPr/>
          </p:nvSpPr>
          <p:spPr>
            <a:xfrm>
              <a:off x="4019760" y="373860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0" name=""/>
            <p:cNvCxnSpPr>
              <a:stCxn id="717" idx="0"/>
              <a:endCxn id="741" idx="4"/>
            </p:cNvCxnSpPr>
            <p:nvPr/>
          </p:nvCxnSpPr>
          <p:spPr>
            <a:xfrm flipV="1">
              <a:off x="4476960" y="3737880"/>
              <a:ext cx="186480" cy="110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2" name=""/>
            <p:cNvCxnSpPr>
              <a:stCxn id="718" idx="0"/>
              <a:endCxn id="741" idx="4"/>
            </p:cNvCxnSpPr>
            <p:nvPr/>
          </p:nvCxnSpPr>
          <p:spPr>
            <a:xfrm flipV="1">
              <a:off x="4628880" y="3738240"/>
              <a:ext cx="34200" cy="86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3" name=""/>
            <p:cNvCxnSpPr>
              <a:stCxn id="741" idx="4"/>
              <a:endCxn id="720" idx="0"/>
            </p:cNvCxnSpPr>
            <p:nvPr/>
          </p:nvCxnSpPr>
          <p:spPr>
            <a:xfrm>
              <a:off x="4662720" y="3738240"/>
              <a:ext cx="272160" cy="342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4" name=""/>
            <p:cNvCxnSpPr>
              <a:stCxn id="741" idx="4"/>
              <a:endCxn id="719" idx="0"/>
            </p:cNvCxnSpPr>
            <p:nvPr/>
          </p:nvCxnSpPr>
          <p:spPr>
            <a:xfrm>
              <a:off x="4662360" y="3738240"/>
              <a:ext cx="119880" cy="579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41" name=""/>
            <p:cNvSpPr/>
            <p:nvPr/>
          </p:nvSpPr>
          <p:spPr>
            <a:xfrm>
              <a:off x="4624560" y="3652920"/>
              <a:ext cx="76320" cy="7632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5" name=""/>
            <p:cNvCxnSpPr>
              <a:stCxn id="721" idx="0"/>
              <a:endCxn id="746" idx="4"/>
            </p:cNvCxnSpPr>
            <p:nvPr/>
          </p:nvCxnSpPr>
          <p:spPr>
            <a:xfrm flipV="1">
              <a:off x="5086080" y="3662280"/>
              <a:ext cx="191160" cy="1101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7" name=""/>
            <p:cNvCxnSpPr>
              <a:stCxn id="722" idx="0"/>
              <a:endCxn id="746" idx="4"/>
            </p:cNvCxnSpPr>
            <p:nvPr/>
          </p:nvCxnSpPr>
          <p:spPr>
            <a:xfrm flipV="1">
              <a:off x="5238720" y="3662280"/>
              <a:ext cx="38520" cy="86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8" name=""/>
            <p:cNvCxnSpPr>
              <a:stCxn id="746" idx="4"/>
              <a:endCxn id="724" idx="0"/>
            </p:cNvCxnSpPr>
            <p:nvPr/>
          </p:nvCxnSpPr>
          <p:spPr>
            <a:xfrm>
              <a:off x="5276520" y="3662640"/>
              <a:ext cx="267120" cy="338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749" name=""/>
            <p:cNvCxnSpPr>
              <a:stCxn id="746" idx="4"/>
              <a:endCxn id="723" idx="0"/>
            </p:cNvCxnSpPr>
            <p:nvPr/>
          </p:nvCxnSpPr>
          <p:spPr>
            <a:xfrm>
              <a:off x="5276880" y="3662640"/>
              <a:ext cx="115200" cy="576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746" name=""/>
            <p:cNvSpPr/>
            <p:nvPr/>
          </p:nvSpPr>
          <p:spPr>
            <a:xfrm>
              <a:off x="5239080" y="3576960"/>
              <a:ext cx="75960" cy="759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0" name=""/>
            <p:cNvCxnSpPr>
              <a:stCxn id="726" idx="6"/>
              <a:endCxn id="731" idx="2"/>
            </p:cNvCxnSpPr>
            <p:nvPr/>
          </p:nvCxnSpPr>
          <p:spPr>
            <a:xfrm flipV="1">
              <a:off x="2885760" y="3885840"/>
              <a:ext cx="515160" cy="11520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1" name=""/>
            <p:cNvCxnSpPr>
              <a:stCxn id="736" idx="2"/>
              <a:endCxn id="731" idx="6"/>
            </p:cNvCxnSpPr>
            <p:nvPr/>
          </p:nvCxnSpPr>
          <p:spPr>
            <a:xfrm flipH="1">
              <a:off x="3495960" y="3776760"/>
              <a:ext cx="514440" cy="11016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2" name=""/>
            <p:cNvCxnSpPr>
              <a:stCxn id="736" idx="6"/>
              <a:endCxn id="741" idx="2"/>
            </p:cNvCxnSpPr>
            <p:nvPr/>
          </p:nvCxnSpPr>
          <p:spPr>
            <a:xfrm flipV="1">
              <a:off x="4105080" y="3690720"/>
              <a:ext cx="510120" cy="8640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cxnSp>
          <p:nvCxnSpPr>
            <p:cNvPr id="753" name=""/>
            <p:cNvCxnSpPr>
              <a:stCxn id="746" idx="2"/>
              <a:endCxn id="741" idx="6"/>
            </p:cNvCxnSpPr>
            <p:nvPr/>
          </p:nvCxnSpPr>
          <p:spPr>
            <a:xfrm flipH="1">
              <a:off x="4709880" y="3614760"/>
              <a:ext cx="519840" cy="76680"/>
            </a:xfrm>
            <a:prstGeom prst="straightConnector1">
              <a:avLst/>
            </a:prstGeom>
            <a:ln w="28440">
              <a:solidFill>
                <a:srgbClr val="a50021"/>
              </a:solidFill>
              <a:miter/>
            </a:ln>
          </p:spPr>
        </p:cxnSp>
        <p:sp>
          <p:nvSpPr>
            <p:cNvPr id="754" name=""/>
            <p:cNvSpPr/>
            <p:nvPr/>
          </p:nvSpPr>
          <p:spPr>
            <a:xfrm>
              <a:off x="2762280" y="3918240"/>
              <a:ext cx="15264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372120" y="381024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981600" y="369576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91080" y="3613320"/>
              <a:ext cx="15264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200920" y="3537000"/>
              <a:ext cx="152280" cy="158760"/>
            </a:xfrm>
            <a:prstGeom prst="ellipse">
              <a:avLst/>
            </a:prstGeom>
            <a:gradFill rotWithShape="0">
              <a:gsLst>
                <a:gs pos="0">
                  <a:srgbClr val="4d0808"/>
                </a:gs>
                <a:gs pos="100000">
                  <a:srgbClr val="fff200"/>
                </a:gs>
              </a:gsLst>
              <a:lin ang="13500000"/>
            </a:gra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6267600" y="1876320"/>
            <a:ext cx="2057400" cy="1762200"/>
            <a:chOff x="6267600" y="1876320"/>
            <a:chExt cx="2057400" cy="1762200"/>
          </a:xfrm>
        </p:grpSpPr>
        <p:sp>
          <p:nvSpPr>
            <p:cNvPr id="760" name=""/>
            <p:cNvSpPr/>
            <p:nvPr/>
          </p:nvSpPr>
          <p:spPr>
            <a:xfrm>
              <a:off x="6296040" y="1876320"/>
              <a:ext cx="2028960" cy="1762200"/>
            </a:xfrm>
            <a:prstGeom prst="wedgeRectCallout">
              <a:avLst>
                <a:gd name="adj1" fmla="val -89046"/>
                <a:gd name="adj2" fmla="val 43694"/>
              </a:avLst>
            </a:prstGeom>
            <a:solidFill>
              <a:srgbClr val="c0c0c0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267600" y="1876320"/>
              <a:ext cx="2028600" cy="271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a50021"/>
                  </a:solidFill>
                  <a:latin typeface="Arial"/>
                  <a:ea typeface="굴림"/>
                </a:rPr>
                <a:t>Ma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2" name="" descr=""/>
            <p:cNvPicPr/>
            <p:nvPr/>
          </p:nvPicPr>
          <p:blipFill>
            <a:blip r:embed="rId3">
              <a:lum bright="20000"/>
            </a:blip>
            <a:stretch/>
          </p:blipFill>
          <p:spPr>
            <a:xfrm>
              <a:off x="6296040" y="2147760"/>
              <a:ext cx="202896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3" name=""/>
          <p:cNvSpPr/>
          <p:nvPr/>
        </p:nvSpPr>
        <p:spPr>
          <a:xfrm>
            <a:off x="3886200" y="4495680"/>
            <a:ext cx="4952880" cy="1434600"/>
          </a:xfrm>
          <a:prstGeom prst="rect">
            <a:avLst/>
          </a:prstGeom>
          <a:solidFill>
            <a:srgbClr val="ccccff"/>
          </a:solidFill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Ran successfully for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24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100%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reliable data delive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Deployment time: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2.5 ho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Total sensor data received: </a:t>
            </a:r>
            <a:r>
              <a:rPr b="1" lang="en-US" sz="2200" spc="-1" strike="noStrike">
                <a:solidFill>
                  <a:srgbClr val="cc3300"/>
                </a:solidFill>
                <a:latin typeface="Arial"/>
                <a:ea typeface="굴림"/>
              </a:rPr>
              <a:t>860 M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212C-0D08-4870-B7D0-0FE51A5634E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500"/>
                            </p:stCondLst>
                            <p:childTnLst>
                              <p:par>
                                <p:cTn id="6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" descr=""/>
          <p:cNvPicPr/>
          <p:nvPr/>
        </p:nvPicPr>
        <p:blipFill>
          <a:blip r:embed="rId1"/>
          <a:stretch/>
        </p:blipFill>
        <p:spPr>
          <a:xfrm>
            <a:off x="2409840" y="1465200"/>
            <a:ext cx="4524480" cy="4859280"/>
          </a:xfrm>
          <a:prstGeom prst="rect">
            <a:avLst/>
          </a:prstGeom>
          <a:ln w="0">
            <a:noFill/>
          </a:ln>
        </p:spPr>
      </p:pic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Interesting Observation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766" name=""/>
          <p:cNvGrpSpPr/>
          <p:nvPr/>
        </p:nvGrpSpPr>
        <p:grpSpPr>
          <a:xfrm>
            <a:off x="116640" y="1803240"/>
            <a:ext cx="3769560" cy="4216680"/>
            <a:chOff x="116640" y="1803240"/>
            <a:chExt cx="3769560" cy="4216680"/>
          </a:xfrm>
        </p:grpSpPr>
        <p:sp>
          <p:nvSpPr>
            <p:cNvPr id="767" name=""/>
            <p:cNvSpPr/>
            <p:nvPr/>
          </p:nvSpPr>
          <p:spPr>
            <a:xfrm>
              <a:off x="2514600" y="2286000"/>
              <a:ext cx="990720" cy="914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6640" y="1803240"/>
              <a:ext cx="3106800" cy="1008720"/>
            </a:xfrm>
            <a:prstGeom prst="rect">
              <a:avLst/>
            </a:prstGeom>
            <a:solidFill>
              <a:srgbClr val="ccccff"/>
            </a:solidFill>
            <a:ln w="324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undamental mod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grees with previous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ublished measur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276720" y="1981080"/>
              <a:ext cx="609480" cy="403884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666880" y="5029200"/>
            <a:ext cx="6341400" cy="754560"/>
            <a:chOff x="2666880" y="5029200"/>
            <a:chExt cx="6341400" cy="754560"/>
          </a:xfrm>
        </p:grpSpPr>
        <p:sp>
          <p:nvSpPr>
            <p:cNvPr id="771" name=""/>
            <p:cNvSpPr/>
            <p:nvPr/>
          </p:nvSpPr>
          <p:spPr>
            <a:xfrm flipH="1" flipV="1">
              <a:off x="6476760" y="5257800"/>
              <a:ext cx="763560" cy="355680"/>
            </a:xfrm>
            <a:prstGeom prst="line">
              <a:avLst/>
            </a:prstGeom>
            <a:ln w="3816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087320" y="5384880"/>
              <a:ext cx="1920960" cy="3988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aulty sensor!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66880" y="5029200"/>
              <a:ext cx="4343400" cy="380880"/>
            </a:xfrm>
            <a:prstGeom prst="ellipse">
              <a:avLst/>
            </a:prstGeom>
            <a:noFill/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4267080" y="1879560"/>
            <a:ext cx="4753800" cy="4292640"/>
            <a:chOff x="4267080" y="1879560"/>
            <a:chExt cx="4753800" cy="4292640"/>
          </a:xfrm>
        </p:grpSpPr>
        <p:sp>
          <p:nvSpPr>
            <p:cNvPr id="775" name=""/>
            <p:cNvSpPr/>
            <p:nvPr/>
          </p:nvSpPr>
          <p:spPr>
            <a:xfrm flipH="1">
              <a:off x="4572000" y="2266920"/>
              <a:ext cx="2255760" cy="552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5638680" y="2286000"/>
              <a:ext cx="1184400" cy="10666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33360" y="1879560"/>
              <a:ext cx="2387520" cy="7038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Consistent mo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cross sens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267080" y="1981080"/>
              <a:ext cx="30492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334120" y="1981080"/>
              <a:ext cx="53316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019920" y="1981080"/>
              <a:ext cx="533160" cy="4191120"/>
            </a:xfrm>
            <a:prstGeom prst="ellipse">
              <a:avLst/>
            </a:prstGeom>
            <a:noFill/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6324480" y="2438280"/>
              <a:ext cx="650880" cy="11430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6306-0907-4B5C-9BFF-0EE166414B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2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Related Work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N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[Culler,`05], [Polastre,`05], Internet [Saltzer, `8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Virtual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 [Levis,`02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ing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VanGo [Greenstein,`06], SNACK [Greenstein,`04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Task Disse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Deluge [Hui,`04], Trickle [Levis,`0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eliable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RMST [Stann,`03], Wisden [Xu,`04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SS [Guy,`06], Centroute [Stathopoulos,`05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927-CA59-448C-9EEC-63704324DE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7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7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7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7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500"/>
                            </p:stCondLst>
                            <p:childTnLst>
                              <p:par>
                                <p:cTn id="7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7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7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000"/>
                            </p:stCondLst>
                            <p:childTnLst>
                              <p:par>
                                <p:cTn id="7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500"/>
                                        <p:tgtEl>
                                          <p:spTgt spid="7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7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1500"/>
                            </p:stCondLst>
                            <p:childTnLst>
                              <p:par>
                                <p:cTn id="7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500"/>
                                        <p:tgtEl>
                                          <p:spTgt spid="7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7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onclus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1"/>
          <a:stretch/>
        </p:blipFill>
        <p:spPr>
          <a:xfrm>
            <a:off x="1857240" y="2527200"/>
            <a:ext cx="5256360" cy="2935440"/>
          </a:xfrm>
          <a:prstGeom prst="rect">
            <a:avLst/>
          </a:prstGeom>
          <a:ln w="0">
            <a:noFill/>
          </a:ln>
        </p:spPr>
      </p:pic>
      <p:sp>
        <p:nvSpPr>
          <p:cNvPr id="786" name=""/>
          <p:cNvSpPr/>
          <p:nvPr/>
        </p:nvSpPr>
        <p:spPr>
          <a:xfrm rot="2632200">
            <a:off x="2997360" y="2666880"/>
            <a:ext cx="1346040" cy="457200"/>
          </a:xfrm>
          <a:custGeom>
            <a:avLst/>
            <a:gdLst>
              <a:gd name="textAreaLeft" fmla="*/ 168120 w 1346040"/>
              <a:gd name="textAreaRight" fmla="*/ 1177920 w 13460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99cc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2033640"/>
            <a:ext cx="2514600" cy="480960"/>
          </a:xfrm>
          <a:prstGeom prst="rect">
            <a:avLst/>
          </a:prstGeom>
          <a:solidFill>
            <a:srgbClr val="ff99cc"/>
          </a:solidFill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9480" y="2033640"/>
            <a:ext cx="4572000" cy="480960"/>
          </a:xfrm>
          <a:prstGeom prst="rect">
            <a:avLst/>
          </a:prstGeom>
          <a:solidFill>
            <a:srgbClr val="ff99cc"/>
          </a:solidFill>
          <a:ln w="2844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implifies application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2774000">
            <a:off x="5181120" y="4242960"/>
            <a:ext cx="1295640" cy="45720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6095880" y="4800600"/>
            <a:ext cx="274320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5562720" y="4800600"/>
            <a:ext cx="350496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obust and scalabl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rot="19869600">
            <a:off x="2506680" y="4853160"/>
            <a:ext cx="1371600" cy="457200"/>
          </a:xfrm>
          <a:custGeom>
            <a:avLst/>
            <a:gdLst>
              <a:gd name="textAreaLeft" fmla="*/ 17136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33520" y="538632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6320" y="5386320"/>
            <a:ext cx="34290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Re-usable generic mote 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1981080" y="3533760"/>
            <a:ext cx="4876920" cy="480960"/>
          </a:xfrm>
          <a:prstGeom prst="rect">
            <a:avLst/>
          </a:prstGeom>
          <a:solidFill>
            <a:srgbClr val="9999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굴림"/>
              </a:rPr>
              <a:t>Simple, generic and re-usab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3F84-FA1E-4F9E-AFB9-39E9CEB6987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Software Available Soon…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Cygw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Linux Fedora Cor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Star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ot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Telo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ic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4944960" y="2362320"/>
            <a:ext cx="363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1"/>
              </a:rPr>
              <a:t>http://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ea typeface="굴림"/>
                <a:hlinkClick r:id="rId2"/>
              </a:rPr>
              <a:t>tenet.usc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336640" y="4448160"/>
            <a:ext cx="270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굴림"/>
              </a:rPr>
              <a:t>Thank you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5DDE-FEA6-4CC4-AD37-DCB7C6938D3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An Aggressive Position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Why not design systems without sensor data fusion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ot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A more aggressive position: Why not design an </a:t>
            </a:r>
            <a:r>
              <a:rPr b="0" i="1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architecture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  <a:ea typeface="굴림"/>
              </a:rPr>
              <a:t> that prohibi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 collaborative data fusion o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mo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How do we design this architect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Will such an architecture perform wel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6629400" y="4162320"/>
            <a:ext cx="2209680" cy="2390760"/>
            <a:chOff x="6629400" y="4162320"/>
            <a:chExt cx="2209680" cy="239076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6838920" y="4162320"/>
              <a:ext cx="2000160" cy="23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629400" y="5181480"/>
              <a:ext cx="2133720" cy="87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Arial"/>
                  <a:ea typeface="굴림"/>
                </a:rPr>
                <a:t>No more on-mote collaborative fus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0ECF-E810-43A2-BCDC-B42D039301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iered Sensor Network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4775040" cy="26668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638680" y="4267080"/>
            <a:ext cx="30481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ow-power, short-range ra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Contain sensing and ac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1460520"/>
            <a:ext cx="320040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as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32-bit CPUs (e.g. PC, Stargat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Higher-bandwidth rad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rger batteries or powe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4632480"/>
            <a:ext cx="3276720" cy="70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nable flexible deployment of dense instru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38680" y="1828800"/>
            <a:ext cx="33530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vide greater network capacity, larger spatial r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876920"/>
            <a:ext cx="510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any real-world sensor network deployments are ti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1676520"/>
            <a:ext cx="5257800" cy="21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eal world deployments a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Great Duck Island (UCB, [Szewczyk,`04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James Reserve (UCLA, [Guy,`06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Exscal project (OSU, [Arora,`05]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971800"/>
            <a:ext cx="5181480" cy="825480"/>
          </a:xfrm>
          <a:prstGeom prst="rect">
            <a:avLst/>
          </a:prstGeom>
          <a:solidFill>
            <a:srgbClr val="cccc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Future large-scale sensor network deployments will be ti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5715000" y="2590920"/>
            <a:ext cx="2114640" cy="1562040"/>
            <a:chOff x="5715000" y="2590920"/>
            <a:chExt cx="2114640" cy="1562040"/>
          </a:xfrm>
        </p:grpSpPr>
        <p:sp>
          <p:nvSpPr>
            <p:cNvPr id="105" name=""/>
            <p:cNvSpPr/>
            <p:nvPr/>
          </p:nvSpPr>
          <p:spPr>
            <a:xfrm>
              <a:off x="5715000" y="2590920"/>
              <a:ext cx="2114640" cy="15620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5756400" y="2627280"/>
              <a:ext cx="2028600" cy="14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5492-45B2-41DE-A29E-F11AA313FEA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66880" y="2176560"/>
            <a:ext cx="7372080" cy="2286000"/>
          </a:xfrm>
          <a:prstGeom prst="rect">
            <a:avLst/>
          </a:prstGeom>
          <a:solidFill>
            <a:srgbClr val="c0c0c0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 Principl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04760" y="2263680"/>
            <a:ext cx="7105680" cy="2117880"/>
          </a:xfrm>
          <a:prstGeom prst="rect">
            <a:avLst/>
          </a:prstGeom>
          <a:solidFill>
            <a:srgbClr val="ffffff"/>
          </a:solidFill>
          <a:ln w="284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2880" rIns="182880" tIns="137160" bIns="137160" anchor="ctr" anchorCtr="1">
            <a:spAutoFit/>
          </a:bodyPr>
          <a:p>
            <a:pPr>
              <a:lnSpc>
                <a:spcPct val="11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Arial"/>
                <a:ea typeface="굴림"/>
              </a:rPr>
              <a:t>Multi-node data fusion functionality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 and multi-node application logic should be</a:t>
            </a:r>
            <a:r>
              <a:rPr b="0" i="1" lang="en-US" sz="2200" spc="-1" strike="noStrike">
                <a:solidFill>
                  <a:srgbClr val="cc0000"/>
                </a:solidFill>
                <a:latin typeface="Arial"/>
                <a:ea typeface="굴림"/>
              </a:rPr>
              <a:t> implemented only in the master tier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굴림"/>
              </a:rPr>
              <a:t>. The cost and complexity of implementing this functionality in a fully distributed fashion on motes outweighs the performance benefits of doing 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68560" y="49518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ggressively use tiering to simplify system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596C-0CC7-4B13-88D7-3CD7228105E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876920" y="4724280"/>
            <a:ext cx="380988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nd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may return 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Tenet Architecture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4495680" cy="26719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8150400">
            <a:off x="742680" y="3408480"/>
            <a:ext cx="990360" cy="630000"/>
          </a:xfrm>
          <a:custGeom>
            <a:avLst/>
            <a:gdLst>
              <a:gd name="textAreaLeft" fmla="*/ 154800 w 990360"/>
              <a:gd name="textAreaRight" fmla="*/ 866880 w 990360"/>
              <a:gd name="textAreaTop" fmla="*/ 157320 h 630000"/>
              <a:gd name="textAreaBottom" fmla="*/ 472680 h 63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2179800">
            <a:off x="3104640" y="3352320"/>
            <a:ext cx="1067040" cy="61128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3657600"/>
            <a:ext cx="3809880" cy="53352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ote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process data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7100400">
            <a:off x="1379880" y="3837600"/>
            <a:ext cx="990720" cy="630000"/>
          </a:xfrm>
          <a:custGeom>
            <a:avLst/>
            <a:gdLst>
              <a:gd name="textAreaLeft" fmla="*/ 154800 w 990720"/>
              <a:gd name="textAreaRight" fmla="*/ 866880 w 990720"/>
              <a:gd name="textAreaTop" fmla="*/ 157320 h 630000"/>
              <a:gd name="textAreaBottom" fmla="*/ 472680 h 630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2878800">
            <a:off x="2570760" y="3809160"/>
            <a:ext cx="914400" cy="610920"/>
          </a:xfrm>
          <a:custGeom>
            <a:avLst/>
            <a:gdLst>
              <a:gd name="textAreaLeft" fmla="*/ 142920 w 914400"/>
              <a:gd name="textAreaRight" fmla="*/ 800280 w 914400"/>
              <a:gd name="textAreaTop" fmla="*/ 152640 h 610920"/>
              <a:gd name="textAreaBottom" fmla="*/ 458280 h 610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00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rot="16598400">
            <a:off x="2100240" y="413532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5874200">
            <a:off x="1795320" y="412884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7218200">
            <a:off x="1490760" y="41292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18566400">
            <a:off x="1185840" y="397656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8747000">
            <a:off x="839880" y="38304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9530600">
            <a:off x="596880" y="365724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20154000">
            <a:off x="437760" y="342900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4354400">
            <a:off x="3183120" y="382392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2517800">
            <a:off x="3416400" y="3539880"/>
            <a:ext cx="984240" cy="19368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3419600">
            <a:off x="2786760" y="3976200"/>
            <a:ext cx="984600" cy="193680"/>
          </a:xfrm>
          <a:custGeom>
            <a:avLst/>
            <a:gdLst>
              <a:gd name="textAreaLeft" fmla="*/ 123120 w 984600"/>
              <a:gd name="textAreaRight" fmla="*/ 861840 w 984600"/>
              <a:gd name="textAreaTop" fmla="*/ 48240 h 193680"/>
              <a:gd name="textAreaBottom" fmla="*/ 145440 h 193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5264600">
            <a:off x="2462040" y="4135320"/>
            <a:ext cx="984240" cy="193320"/>
          </a:xfrm>
          <a:custGeom>
            <a:avLst/>
            <a:gdLst>
              <a:gd name="textAreaLeft" fmla="*/ 122760 w 984240"/>
              <a:gd name="textAreaRight" fmla="*/ 861480 w 984240"/>
              <a:gd name="textAreaTop" fmla="*/ 48240 h 193320"/>
              <a:gd name="textAreaBottom" fmla="*/ 145080 h 193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114800" y="5486400"/>
            <a:ext cx="4952880" cy="609480"/>
            <a:chOff x="4114800" y="5486400"/>
            <a:chExt cx="4952880" cy="609480"/>
          </a:xfrm>
        </p:grpSpPr>
        <p:sp>
          <p:nvSpPr>
            <p:cNvPr id="131" name=""/>
            <p:cNvSpPr/>
            <p:nvPr/>
          </p:nvSpPr>
          <p:spPr>
            <a:xfrm>
              <a:off x="4114800" y="5486400"/>
              <a:ext cx="4952880" cy="609480"/>
            </a:xfrm>
            <a:prstGeom prst="ellipse">
              <a:avLst/>
            </a:prstGeom>
            <a:solidFill>
              <a:srgbClr val="ccccff"/>
            </a:solidFill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216320" y="5585400"/>
              <a:ext cx="474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No multi-node fusion at the mote ti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4800600" y="1523880"/>
            <a:ext cx="3885840" cy="609840"/>
            <a:chOff x="4800600" y="1523880"/>
            <a:chExt cx="3885840" cy="609840"/>
          </a:xfrm>
        </p:grpSpPr>
        <p:sp>
          <p:nvSpPr>
            <p:cNvPr id="134" name=""/>
            <p:cNvSpPr/>
            <p:nvPr/>
          </p:nvSpPr>
          <p:spPr>
            <a:xfrm>
              <a:off x="4800600" y="1523880"/>
              <a:ext cx="3885840" cy="609840"/>
            </a:xfrm>
            <a:prstGeom prst="ellipse">
              <a:avLst/>
            </a:prstGeom>
            <a:solidFill>
              <a:srgbClr val="ccccff"/>
            </a:solidFill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928760" y="1610280"/>
              <a:ext cx="366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asters control mot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09440" y="4114800"/>
            <a:ext cx="4572000" cy="1143000"/>
            <a:chOff x="109440" y="4114800"/>
            <a:chExt cx="4572000" cy="1143000"/>
          </a:xfrm>
        </p:grpSpPr>
        <p:sp>
          <p:nvSpPr>
            <p:cNvPr id="137" name=""/>
            <p:cNvSpPr/>
            <p:nvPr/>
          </p:nvSpPr>
          <p:spPr>
            <a:xfrm>
              <a:off x="4224240" y="41148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62480" y="464832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71760" y="487692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81040" y="48006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9280" y="4495680"/>
              <a:ext cx="457200" cy="3812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9440" y="4114800"/>
              <a:ext cx="457200" cy="38088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324480" y="4191120"/>
            <a:ext cx="76212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124080"/>
            <a:ext cx="7621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76920" y="2362320"/>
            <a:ext cx="3809880" cy="703800"/>
          </a:xfrm>
          <a:prstGeom prst="rect">
            <a:avLst/>
          </a:prstGeom>
          <a:solidFill>
            <a:srgbClr val="ffffff"/>
          </a:solidFill>
          <a:ln w="76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pplications run on masters, and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굴림"/>
              </a:rPr>
              <a:t>masters task m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DE8B-31D8-4395-AC63-1961B22BB8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What do we gain ?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Simplifies the application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굴림"/>
              </a:rPr>
              <a:t>Application writers do not need to write or debug embedded code for the mo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Applications run on less-constrained ma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굴림"/>
              </a:rPr>
              <a:t>Enables significant code re-use across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굴림"/>
              </a:rPr>
              <a:t>Simple, generic, and re-usable mote t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Multiple applications can run concurrently with simplified mote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Robust and scalable network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굴림"/>
              </a:rPr>
              <a:t>Networking functionality is generic enough to support various types of applications which improves network re-us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D00C-12E8-4567-AEE0-D540EBC6ED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33520" y="1523880"/>
            <a:ext cx="80769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ore bits communicated than necessar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523880"/>
            <a:ext cx="62481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Communication over longer ho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57800" y="2590920"/>
            <a:ext cx="380880" cy="3808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3086280"/>
            <a:ext cx="380880" cy="380880"/>
          </a:xfrm>
          <a:prstGeom prst="ellipse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295280" y="3505320"/>
            <a:ext cx="1752480" cy="1218600"/>
            <a:chOff x="1295280" y="3505320"/>
            <a:chExt cx="1752480" cy="1218600"/>
          </a:xfrm>
        </p:grpSpPr>
        <p:sp>
          <p:nvSpPr>
            <p:cNvPr id="153" name=""/>
            <p:cNvSpPr/>
            <p:nvPr/>
          </p:nvSpPr>
          <p:spPr>
            <a:xfrm>
              <a:off x="1295280" y="3505320"/>
              <a:ext cx="380880" cy="3808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904760" y="3962160"/>
              <a:ext cx="380880" cy="38088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6880" y="4343400"/>
              <a:ext cx="380880" cy="380520"/>
            </a:xfrm>
            <a:prstGeom prst="ellipse">
              <a:avLst/>
            </a:prstGeom>
            <a:noFill/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Challenges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23920" y="2133720"/>
            <a:ext cx="4743360" cy="26492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28600" y="3505320"/>
            <a:ext cx="1371600" cy="86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1143000" y="4038480"/>
            <a:ext cx="13716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2057400" y="4572000"/>
            <a:ext cx="1371600" cy="91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61" name=""/>
          <p:cNvGrpSpPr/>
          <p:nvPr/>
        </p:nvGrpSpPr>
        <p:grpSpPr>
          <a:xfrm>
            <a:off x="1143000" y="3276720"/>
            <a:ext cx="1980720" cy="1447200"/>
            <a:chOff x="1143000" y="3276720"/>
            <a:chExt cx="1980720" cy="1447200"/>
          </a:xfrm>
        </p:grpSpPr>
        <p:sp>
          <p:nvSpPr>
            <p:cNvPr id="162" name=""/>
            <p:cNvSpPr/>
            <p:nvPr/>
          </p:nvSpPr>
          <p:spPr>
            <a:xfrm>
              <a:off x="2666880" y="426708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752480" y="380988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43000" y="3276720"/>
              <a:ext cx="456840" cy="456840"/>
            </a:xfrm>
            <a:prstGeom prst="flowChartMultidocumen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1600200" y="2781000"/>
            <a:ext cx="3657960" cy="1714680"/>
            <a:chOff x="1600200" y="2781000"/>
            <a:chExt cx="3657960" cy="1714680"/>
          </a:xfrm>
        </p:grpSpPr>
        <p:cxnSp>
          <p:nvCxnSpPr>
            <p:cNvPr id="166" name=""/>
            <p:cNvCxnSpPr>
              <a:stCxn id="164" idx="3"/>
              <a:endCxn id="150" idx="2"/>
            </p:cNvCxnSpPr>
            <p:nvPr/>
          </p:nvCxnSpPr>
          <p:spPr>
            <a:xfrm flipV="1">
              <a:off x="1600200" y="2781000"/>
              <a:ext cx="3658320" cy="724320"/>
            </a:xfrm>
            <a:prstGeom prst="curvedConnector5">
              <a:avLst>
                <a:gd name="adj1" fmla="val 49995"/>
                <a:gd name="adj2" fmla="val 49975"/>
                <a:gd name="adj3" fmla="val 49995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63" idx="3"/>
              <a:endCxn id="150" idx="2"/>
            </p:cNvCxnSpPr>
            <p:nvPr/>
          </p:nvCxnSpPr>
          <p:spPr>
            <a:xfrm flipV="1">
              <a:off x="2210040" y="2781000"/>
              <a:ext cx="3048480" cy="1257840"/>
            </a:xfrm>
            <a:prstGeom prst="curvedConnector5">
              <a:avLst>
                <a:gd name="adj1" fmla="val 49994"/>
                <a:gd name="adj2" fmla="val 49985"/>
                <a:gd name="adj3" fmla="val 49994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62" idx="3"/>
              <a:endCxn id="150" idx="2"/>
            </p:cNvCxnSpPr>
            <p:nvPr/>
          </p:nvCxnSpPr>
          <p:spPr>
            <a:xfrm flipV="1">
              <a:off x="3124440" y="2781000"/>
              <a:ext cx="2134080" cy="1715040"/>
            </a:xfrm>
            <a:prstGeom prst="curvedConnector5">
              <a:avLst>
                <a:gd name="adj1" fmla="val 49991"/>
                <a:gd name="adj2" fmla="val 49989"/>
                <a:gd name="adj3" fmla="val 49991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</p:grpSp>
      <p:grpSp>
        <p:nvGrpSpPr>
          <p:cNvPr id="169" name=""/>
          <p:cNvGrpSpPr/>
          <p:nvPr/>
        </p:nvGrpSpPr>
        <p:grpSpPr>
          <a:xfrm>
            <a:off x="1600200" y="2781000"/>
            <a:ext cx="3657240" cy="1714680"/>
            <a:chOff x="1600200" y="2781000"/>
            <a:chExt cx="3657240" cy="1714680"/>
          </a:xfrm>
        </p:grpSpPr>
        <p:grpSp>
          <p:nvGrpSpPr>
            <p:cNvPr id="170" name=""/>
            <p:cNvGrpSpPr/>
            <p:nvPr/>
          </p:nvGrpSpPr>
          <p:grpSpPr>
            <a:xfrm>
              <a:off x="1600200" y="3733560"/>
              <a:ext cx="990720" cy="762120"/>
              <a:chOff x="1600200" y="3733560"/>
              <a:chExt cx="990720" cy="762120"/>
            </a:xfrm>
          </p:grpSpPr>
          <p:sp>
            <p:nvSpPr>
              <p:cNvPr id="171" name=""/>
              <p:cNvSpPr/>
              <p:nvPr/>
            </p:nvSpPr>
            <p:spPr>
              <a:xfrm>
                <a:off x="1600200" y="3733560"/>
                <a:ext cx="990720" cy="7621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600200" y="3962160"/>
                <a:ext cx="99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굴림"/>
                  </a:rPr>
                  <a:t>Fus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73" name=""/>
            <p:cNvCxnSpPr>
              <a:stCxn id="162" idx="1"/>
              <a:endCxn id="172" idx="2"/>
            </p:cNvCxnSpPr>
            <p:nvPr/>
          </p:nvCxnSpPr>
          <p:spPr>
            <a:xfrm flipH="1" flipV="1">
              <a:off x="2095200" y="4266360"/>
              <a:ext cx="572400" cy="22932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64" idx="3"/>
              <a:endCxn id="172" idx="0"/>
            </p:cNvCxnSpPr>
            <p:nvPr/>
          </p:nvCxnSpPr>
          <p:spPr>
            <a:xfrm>
              <a:off x="1600200" y="3504960"/>
              <a:ext cx="496080" cy="457920"/>
            </a:xfrm>
            <a:prstGeom prst="straightConnector1">
              <a:avLst/>
            </a:prstGeom>
            <a:ln w="38160">
              <a:solidFill>
                <a:srgbClr val="333399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71" idx="7"/>
              <a:endCxn id="150" idx="2"/>
            </p:cNvCxnSpPr>
            <p:nvPr/>
          </p:nvCxnSpPr>
          <p:spPr>
            <a:xfrm flipH="1" flipV="1" rot="5400000">
              <a:off x="3319560" y="1907280"/>
              <a:ext cx="1064160" cy="2811600"/>
            </a:xfrm>
            <a:prstGeom prst="curvedConnector2">
              <a:avLst/>
            </a:prstGeom>
            <a:ln w="76320">
              <a:solidFill>
                <a:srgbClr val="333399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4343400" y="4419720"/>
            <a:ext cx="4648320" cy="182880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Not an 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ypically the diameter of the mote tier will be sm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Can compensate by more aggressive processing at the m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620720" y="3275640"/>
            <a:ext cx="1541520" cy="1067400"/>
            <a:chOff x="1620720" y="3275640"/>
            <a:chExt cx="1541520" cy="1067400"/>
          </a:xfrm>
        </p:grpSpPr>
        <p:cxnSp>
          <p:nvCxnSpPr>
            <p:cNvPr id="178" name=""/>
            <p:cNvCxnSpPr>
              <a:stCxn id="151" idx="2"/>
            </p:cNvCxnSpPr>
            <p:nvPr/>
          </p:nvCxnSpPr>
          <p:spPr>
            <a:xfrm flipV="1" rot="10800000">
              <a:off x="1620720" y="3275280"/>
              <a:ext cx="1351080" cy="284400"/>
            </a:xfrm>
            <a:prstGeom prst="curvedConnector5">
              <a:avLst>
                <a:gd name="adj1" fmla="val 49946"/>
                <a:gd name="adj2" fmla="val 49936"/>
                <a:gd name="adj3" fmla="val 49946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>
              <a:stCxn id="151" idx="3"/>
            </p:cNvCxnSpPr>
            <p:nvPr/>
          </p:nvCxnSpPr>
          <p:spPr>
            <a:xfrm rot="5400000">
              <a:off x="2324880" y="3315960"/>
              <a:ext cx="606960" cy="797760"/>
            </a:xfrm>
            <a:prstGeom prst="curvedConnector2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51" idx="4"/>
            </p:cNvCxnSpPr>
            <p:nvPr/>
          </p:nvCxnSpPr>
          <p:spPr>
            <a:xfrm rot="5400000">
              <a:off x="2571120" y="3752280"/>
              <a:ext cx="876600" cy="30564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81" name=""/>
            <p:cNvCxnSpPr>
              <a:stCxn id="153" idx="7"/>
              <a:endCxn id="151" idx="2"/>
            </p:cNvCxnSpPr>
            <p:nvPr/>
          </p:nvCxnSpPr>
          <p:spPr>
            <a:xfrm flipH="1" flipV="1" rot="5400000">
              <a:off x="2153880" y="2742840"/>
              <a:ext cx="284400" cy="1351080"/>
            </a:xfrm>
            <a:prstGeom prst="curvedConnector2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2" name=""/>
            <p:cNvCxnSpPr>
              <a:stCxn id="154" idx="7"/>
              <a:endCxn id="151" idx="3"/>
            </p:cNvCxnSpPr>
            <p:nvPr/>
          </p:nvCxnSpPr>
          <p:spPr>
            <a:xfrm flipH="1" flipV="1" rot="5400000">
              <a:off x="2325240" y="3315600"/>
              <a:ext cx="606960" cy="797760"/>
            </a:xfrm>
            <a:prstGeom prst="curvedConnector5">
              <a:avLst>
                <a:gd name="adj1" fmla="val 49970"/>
                <a:gd name="adj2" fmla="val 49977"/>
                <a:gd name="adj3" fmla="val 49970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3" name=""/>
            <p:cNvCxnSpPr>
              <a:stCxn id="155" idx="0"/>
              <a:endCxn id="151" idx="4"/>
            </p:cNvCxnSpPr>
            <p:nvPr/>
          </p:nvCxnSpPr>
          <p:spPr>
            <a:xfrm flipH="1" flipV="1" rot="5400000">
              <a:off x="2571480" y="3751920"/>
              <a:ext cx="876600" cy="305640"/>
            </a:xfrm>
            <a:prstGeom prst="curvedConnector5">
              <a:avLst>
                <a:gd name="adj1" fmla="val 16844"/>
                <a:gd name="adj2" fmla="val 50000"/>
                <a:gd name="adj3" fmla="val 16844"/>
              </a:avLst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184" name=""/>
          <p:cNvSpPr/>
          <p:nvPr/>
        </p:nvSpPr>
        <p:spPr>
          <a:xfrm>
            <a:off x="2133720" y="3276720"/>
            <a:ext cx="838080" cy="83808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600200" y="2781000"/>
            <a:ext cx="3657960" cy="1714680"/>
            <a:chOff x="1600200" y="2781000"/>
            <a:chExt cx="3657960" cy="1714680"/>
          </a:xfrm>
        </p:grpSpPr>
        <p:cxnSp>
          <p:nvCxnSpPr>
            <p:cNvPr id="186" name=""/>
            <p:cNvCxnSpPr/>
            <p:nvPr/>
          </p:nvCxnSpPr>
          <p:spPr>
            <a:xfrm flipV="1">
              <a:off x="1600200" y="2781000"/>
              <a:ext cx="3658320" cy="724320"/>
            </a:xfrm>
            <a:prstGeom prst="curvedConnector5">
              <a:avLst>
                <a:gd name="adj1" fmla="val 49995"/>
                <a:gd name="adj2" fmla="val 49975"/>
                <a:gd name="adj3" fmla="val 49995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7" name=""/>
            <p:cNvCxnSpPr/>
            <p:nvPr/>
          </p:nvCxnSpPr>
          <p:spPr>
            <a:xfrm flipV="1">
              <a:off x="2210040" y="2781000"/>
              <a:ext cx="3048480" cy="1257840"/>
            </a:xfrm>
            <a:prstGeom prst="curvedConnector5">
              <a:avLst>
                <a:gd name="adj1" fmla="val 49994"/>
                <a:gd name="adj2" fmla="val 49985"/>
                <a:gd name="adj3" fmla="val 49994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188" name=""/>
            <p:cNvCxnSpPr/>
            <p:nvPr/>
          </p:nvCxnSpPr>
          <p:spPr>
            <a:xfrm flipV="1">
              <a:off x="3124440" y="2781000"/>
              <a:ext cx="2134080" cy="1715040"/>
            </a:xfrm>
            <a:prstGeom prst="curvedConnector5">
              <a:avLst>
                <a:gd name="adj1" fmla="val 49991"/>
                <a:gd name="adj2" fmla="val 49989"/>
                <a:gd name="adj3" fmla="val 49991"/>
              </a:avLst>
            </a:prstGeom>
            <a:ln w="76320">
              <a:solidFill>
                <a:srgbClr val="ff9900"/>
              </a:solidFill>
              <a:miter/>
              <a:tailEnd len="med" type="triangle" w="med"/>
            </a:ln>
          </p:spPr>
        </p:cxnSp>
      </p:grpSp>
      <p:sp>
        <p:nvSpPr>
          <p:cNvPr id="189" name=""/>
          <p:cNvSpPr/>
          <p:nvPr/>
        </p:nvSpPr>
        <p:spPr>
          <a:xfrm>
            <a:off x="4343400" y="3352680"/>
            <a:ext cx="4648320" cy="3048120"/>
          </a:xfrm>
          <a:prstGeom prst="rect">
            <a:avLst/>
          </a:prstGeom>
          <a:solidFill>
            <a:srgbClr val="dddddd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 most deployments, there is a significan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tempor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r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굴림"/>
              </a:rPr>
              <a:t>Mote-local processing can achieve significant 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but littl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spa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 correl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Little additional gains from mote tier f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66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Mote-local processing provides most of the aggregation benefits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3124080"/>
            <a:ext cx="4572000" cy="60984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he cost will be sm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F35E-9B0F-4E92-B73E-FBAB085A72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indefinite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indefinite"/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indefinite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indefinite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indefinite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indefinite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indefinite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indefinite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indefinite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indefinite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indefinite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indefinite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indefinite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indefinite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  <a:ea typeface="굴림"/>
              </a:rPr>
              <a:t>System Overview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028880" y="3124080"/>
            <a:ext cx="2514600" cy="480960"/>
          </a:xfrm>
          <a:prstGeom prst="rect">
            <a:avLst/>
          </a:prstGeom>
          <a:solidFill>
            <a:srgbClr val="ffcc66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Tas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410080" y="3124080"/>
            <a:ext cx="2895840" cy="48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Networking Sub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28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Par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48120" y="4290840"/>
            <a:ext cx="13716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lets and Run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696080" y="429084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el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290840"/>
            <a:ext cx="13716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Rou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095880" y="4290840"/>
            <a:ext cx="152424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Tas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isse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192" idx="2"/>
            <a:endCxn id="194" idx="0"/>
          </p:cNvCxnSpPr>
          <p:nvPr/>
        </p:nvCxnSpPr>
        <p:spPr>
          <a:xfrm flipH="1">
            <a:off x="837720" y="3619080"/>
            <a:ext cx="144864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1" name=""/>
          <p:cNvCxnSpPr>
            <a:stCxn id="192" idx="2"/>
            <a:endCxn id="195" idx="0"/>
          </p:cNvCxnSpPr>
          <p:nvPr/>
        </p:nvCxnSpPr>
        <p:spPr>
          <a:xfrm>
            <a:off x="2285640" y="3619080"/>
            <a:ext cx="108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2" name=""/>
          <p:cNvCxnSpPr>
            <a:stCxn id="192" idx="2"/>
            <a:endCxn id="196" idx="0"/>
          </p:cNvCxnSpPr>
          <p:nvPr/>
        </p:nvCxnSpPr>
        <p:spPr>
          <a:xfrm>
            <a:off x="2286000" y="3619080"/>
            <a:ext cx="1448640" cy="672120"/>
          </a:xfrm>
          <a:prstGeom prst="straightConnector1">
            <a:avLst/>
          </a:prstGeom>
          <a:ln w="28440">
            <a:solidFill>
              <a:srgbClr val="cc6600"/>
            </a:solidFill>
            <a:miter/>
          </a:ln>
        </p:spPr>
      </p:cxnSp>
      <p:cxnSp>
        <p:nvCxnSpPr>
          <p:cNvPr id="203" name=""/>
          <p:cNvCxnSpPr>
            <a:stCxn id="193" idx="2"/>
            <a:endCxn id="199" idx="0"/>
          </p:cNvCxnSpPr>
          <p:nvPr/>
        </p:nvCxnSpPr>
        <p:spPr>
          <a:xfrm>
            <a:off x="6857640" y="3619080"/>
            <a:ext cx="108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204" name=""/>
          <p:cNvCxnSpPr>
            <a:stCxn id="193" idx="2"/>
            <a:endCxn id="198" idx="0"/>
          </p:cNvCxnSpPr>
          <p:nvPr/>
        </p:nvCxnSpPr>
        <p:spPr>
          <a:xfrm flipH="1">
            <a:off x="5333400" y="3619080"/>
            <a:ext cx="152460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cxnSp>
        <p:nvCxnSpPr>
          <p:cNvPr id="205" name=""/>
          <p:cNvCxnSpPr>
            <a:stCxn id="193" idx="2"/>
            <a:endCxn id="197" idx="0"/>
          </p:cNvCxnSpPr>
          <p:nvPr/>
        </p:nvCxnSpPr>
        <p:spPr>
          <a:xfrm>
            <a:off x="6857640" y="3619080"/>
            <a:ext cx="1524600" cy="672120"/>
          </a:xfrm>
          <a:prstGeom prst="straightConnector1">
            <a:avLst/>
          </a:prstGeom>
          <a:ln w="28440">
            <a:solidFill>
              <a:srgbClr val="008080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3301920" y="1828800"/>
            <a:ext cx="2514600" cy="480960"/>
          </a:xfrm>
          <a:prstGeom prst="rect">
            <a:avLst/>
          </a:prstGeom>
          <a:solidFill>
            <a:srgbClr val="9999ff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굴림"/>
              </a:rPr>
              <a:t>Tene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"/>
          <p:cNvCxnSpPr>
            <a:stCxn id="206" idx="2"/>
            <a:endCxn id="192" idx="0"/>
          </p:cNvCxnSpPr>
          <p:nvPr/>
        </p:nvCxnSpPr>
        <p:spPr>
          <a:xfrm flipH="1">
            <a:off x="2285280" y="2328840"/>
            <a:ext cx="2274120" cy="78192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cxnSp>
        <p:nvCxnSpPr>
          <p:cNvPr id="208" name=""/>
          <p:cNvCxnSpPr>
            <a:stCxn id="206" idx="2"/>
            <a:endCxn id="193" idx="0"/>
          </p:cNvCxnSpPr>
          <p:nvPr/>
        </p:nvCxnSpPr>
        <p:spPr>
          <a:xfrm>
            <a:off x="4559040" y="2328840"/>
            <a:ext cx="2299320" cy="781920"/>
          </a:xfrm>
          <a:prstGeom prst="straightConnector1">
            <a:avLst/>
          </a:prstGeom>
          <a:ln w="28440">
            <a:solidFill>
              <a:srgbClr val="333399"/>
            </a:solidFill>
            <a:miter/>
          </a:ln>
        </p:spPr>
      </p:cxnSp>
      <p:grpSp>
        <p:nvGrpSpPr>
          <p:cNvPr id="209" name=""/>
          <p:cNvGrpSpPr/>
          <p:nvPr/>
        </p:nvGrpSpPr>
        <p:grpSpPr>
          <a:xfrm>
            <a:off x="5105520" y="3124080"/>
            <a:ext cx="3581280" cy="1219320"/>
            <a:chOff x="5105520" y="3124080"/>
            <a:chExt cx="3581280" cy="1219320"/>
          </a:xfrm>
        </p:grpSpPr>
        <p:sp>
          <p:nvSpPr>
            <p:cNvPr id="210" name=""/>
            <p:cNvSpPr/>
            <p:nvPr/>
          </p:nvSpPr>
          <p:spPr>
            <a:xfrm>
              <a:off x="5105520" y="3124080"/>
              <a:ext cx="3581280" cy="1219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cc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57800" y="3400200"/>
              <a:ext cx="3428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w to disseminate tasks and deliver response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457200" y="3124080"/>
            <a:ext cx="3581280" cy="1219320"/>
            <a:chOff x="457200" y="3124080"/>
            <a:chExt cx="3581280" cy="1219320"/>
          </a:xfrm>
        </p:grpSpPr>
        <p:sp>
          <p:nvSpPr>
            <p:cNvPr id="213" name=""/>
            <p:cNvSpPr/>
            <p:nvPr/>
          </p:nvSpPr>
          <p:spPr>
            <a:xfrm>
              <a:off x="457200" y="3124080"/>
              <a:ext cx="3581280" cy="1219320"/>
            </a:xfrm>
            <a:prstGeom prst="ellipse">
              <a:avLst/>
            </a:prstGeom>
            <a:solidFill>
              <a:srgbClr val="ffcc66"/>
            </a:solidFill>
            <a:ln w="9360">
              <a:solidFill>
                <a:srgbClr val="ff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4240" y="3537000"/>
              <a:ext cx="3200400" cy="398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How to express tasks?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8C772-6B1E-4487-8E5B-3FB5E8F6428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7 4.9711E-006 L 0.00417 0.33294 E">
                                      <p:cBhvr>
                                        <p:cTn id="339" dur="5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indefinite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295 E">
                                      <p:cBhvr>
                                        <p:cTn id="345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indefinite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20:21:54Z</dcterms:created>
  <dc:creator>Jeongyeup Paek</dc:creator>
  <dc:description/>
  <cp:keywords>Tenet Tier Wireless Sensor Network Architecture ENL CENS</cp:keywords>
  <dc:language>en-US</dc:language>
  <cp:lastModifiedBy>Jeongyeup Paek</cp:lastModifiedBy>
  <dcterms:modified xsi:type="dcterms:W3CDTF">2006-11-03T18:01:01Z</dcterms:modified>
  <cp:revision>306</cp:revision>
  <dc:subject>The Tenet Architecture for Tiered Sensor Networks</dc:subject>
  <dc:title>Tenet Sensys 2006</dc:title>
</cp:coreProperties>
</file>